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5.jpeg" ContentType="image/jpeg"/>
  <Override PartName="/ppt/media/image2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7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954-A24C-4DAA-9C6F-3B45E30B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BEC-3F8D-4BF8-9018-B665FC2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E00-49B5-443A-9192-168E35BC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E43-7007-4F43-907F-99429B3D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BEA-4F94-424C-9BBA-719C64C3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5E6-6A75-4515-A13D-51C8647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5E0-65CB-423F-A9EF-B5EAC574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C06-1AA5-423F-9AD9-5554969C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EF4-DE91-4B24-AFFF-DCE565B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1F6-179F-474A-BBD1-DCA5152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F93-161F-432D-94EC-83C5598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D67-B241-4F8D-8D96-5715D23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690-8E70-4B3F-B6CD-C495A62728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0" y="218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パーソナル・スペース侵害時の視線の有無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生理・心理的反応に与える影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4859280" y="4797360"/>
            <a:ext cx="37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心理学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年　長野ゼ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佐軒美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グループ化 4"/>
          <p:cNvGrpSpPr/>
          <p:nvPr/>
        </p:nvGrpSpPr>
        <p:grpSpPr>
          <a:xfrm>
            <a:off x="250920" y="909720"/>
            <a:ext cx="3743280" cy="3458160"/>
            <a:chOff x="250920" y="909720"/>
            <a:chExt cx="3743280" cy="3458160"/>
          </a:xfrm>
        </p:grpSpPr>
        <p:pic>
          <p:nvPicPr>
            <p:cNvPr id="166" name="グラフ 24" descr=""/>
            <p:cNvPicPr/>
            <p:nvPr/>
          </p:nvPicPr>
          <p:blipFill>
            <a:blip r:embed="rId1"/>
            <a:stretch/>
          </p:blipFill>
          <p:spPr>
            <a:xfrm>
              <a:off x="250920" y="909720"/>
              <a:ext cx="3743280" cy="28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テキスト ボックス 25"/>
            <p:cNvSpPr/>
            <p:nvPr/>
          </p:nvSpPr>
          <p:spPr>
            <a:xfrm>
              <a:off x="1693800" y="396900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緊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グループ化 6"/>
          <p:cNvGrpSpPr/>
          <p:nvPr/>
        </p:nvGrpSpPr>
        <p:grpSpPr>
          <a:xfrm>
            <a:off x="4844880" y="907920"/>
            <a:ext cx="3748320" cy="3387600"/>
            <a:chOff x="4844880" y="907920"/>
            <a:chExt cx="3748320" cy="3387600"/>
          </a:xfrm>
        </p:grpSpPr>
        <p:pic>
          <p:nvPicPr>
            <p:cNvPr id="169" name="グラフ 27" descr=""/>
            <p:cNvPicPr/>
            <p:nvPr/>
          </p:nvPicPr>
          <p:blipFill>
            <a:blip r:embed="rId2"/>
            <a:stretch/>
          </p:blipFill>
          <p:spPr>
            <a:xfrm>
              <a:off x="4844880" y="907920"/>
              <a:ext cx="374832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テキスト ボックス 28"/>
            <p:cNvSpPr/>
            <p:nvPr/>
          </p:nvSpPr>
          <p:spPr>
            <a:xfrm>
              <a:off x="6662160" y="3896640"/>
              <a:ext cx="7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不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テキスト ボックス 4"/>
          <p:cNvSpPr/>
          <p:nvPr/>
        </p:nvSpPr>
        <p:spPr>
          <a:xfrm>
            <a:off x="-36360" y="111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卒論の結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心理指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"/>
          <p:cNvSpPr/>
          <p:nvPr/>
        </p:nvSpPr>
        <p:spPr>
          <a:xfrm>
            <a:off x="2066760" y="5054760"/>
            <a:ext cx="50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条件に比べ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直視条件で高くな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距離段階が進む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につれて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高くな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グループ化 52"/>
          <p:cNvGrpSpPr/>
          <p:nvPr/>
        </p:nvGrpSpPr>
        <p:grpSpPr>
          <a:xfrm>
            <a:off x="838080" y="1168560"/>
            <a:ext cx="2894040" cy="1701720"/>
            <a:chOff x="838080" y="1168560"/>
            <a:chExt cx="2894040" cy="1701720"/>
          </a:xfrm>
        </p:grpSpPr>
        <p:sp>
          <p:nvSpPr>
            <p:cNvPr id="174" name="正方形/長方形 40"/>
            <p:cNvSpPr/>
            <p:nvPr/>
          </p:nvSpPr>
          <p:spPr>
            <a:xfrm>
              <a:off x="838080" y="2333880"/>
              <a:ext cx="306360" cy="536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正方形/長方形 41"/>
            <p:cNvSpPr/>
            <p:nvPr/>
          </p:nvSpPr>
          <p:spPr>
            <a:xfrm>
              <a:off x="1709640" y="1989360"/>
              <a:ext cx="306360" cy="649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正方形/長方形 42"/>
            <p:cNvSpPr/>
            <p:nvPr/>
          </p:nvSpPr>
          <p:spPr>
            <a:xfrm>
              <a:off x="2555640" y="1496880"/>
              <a:ext cx="304560" cy="65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正方形/長方形 43"/>
            <p:cNvSpPr/>
            <p:nvPr/>
          </p:nvSpPr>
          <p:spPr>
            <a:xfrm>
              <a:off x="3425760" y="1168560"/>
              <a:ext cx="306360" cy="65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テキスト ボックス 1"/>
          <p:cNvSpPr/>
          <p:nvPr/>
        </p:nvSpPr>
        <p:spPr>
          <a:xfrm>
            <a:off x="2268360" y="3386160"/>
            <a:ext cx="927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気づま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テキスト ボックス 21"/>
          <p:cNvSpPr/>
          <p:nvPr/>
        </p:nvSpPr>
        <p:spPr>
          <a:xfrm>
            <a:off x="3203640" y="3357720"/>
            <a:ext cx="1081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そらした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グループ化 12"/>
          <p:cNvGrpSpPr/>
          <p:nvPr/>
        </p:nvGrpSpPr>
        <p:grpSpPr>
          <a:xfrm>
            <a:off x="3772080" y="1258920"/>
            <a:ext cx="295200" cy="490680"/>
            <a:chOff x="3772080" y="1258920"/>
            <a:chExt cx="295200" cy="490680"/>
          </a:xfrm>
        </p:grpSpPr>
        <p:cxnSp>
          <p:nvCxnSpPr>
            <p:cNvPr id="181" name="直線矢印コネクタ 8"/>
            <p:cNvCxnSpPr/>
            <p:nvPr/>
          </p:nvCxnSpPr>
          <p:spPr>
            <a:xfrm flipH="1">
              <a:off x="3772080" y="1267920"/>
              <a:ext cx="29556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cxnSp>
          <p:nvCxnSpPr>
            <p:cNvPr id="182" name="直線矢印コネクタ 39"/>
            <p:cNvCxnSpPr/>
            <p:nvPr/>
          </p:nvCxnSpPr>
          <p:spPr>
            <a:xfrm flipH="1">
              <a:off x="3772080" y="1738440"/>
              <a:ext cx="29556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sp>
          <p:nvSpPr>
            <p:cNvPr id="183" name="直線コネクタ 10"/>
            <p:cNvSpPr/>
            <p:nvPr/>
          </p:nvSpPr>
          <p:spPr>
            <a:xfrm>
              <a:off x="4067280" y="1258920"/>
              <a:ext cx="0" cy="490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グループ化 7"/>
          <p:cNvGrpSpPr/>
          <p:nvPr/>
        </p:nvGrpSpPr>
        <p:grpSpPr>
          <a:xfrm>
            <a:off x="8451000" y="1566720"/>
            <a:ext cx="297720" cy="331920"/>
            <a:chOff x="8451000" y="1566720"/>
            <a:chExt cx="297720" cy="331920"/>
          </a:xfrm>
        </p:grpSpPr>
        <p:cxnSp>
          <p:nvCxnSpPr>
            <p:cNvPr id="185" name="直線矢印コネクタ 45"/>
            <p:cNvCxnSpPr/>
            <p:nvPr/>
          </p:nvCxnSpPr>
          <p:spPr>
            <a:xfrm flipH="1">
              <a:off x="8451000" y="1572480"/>
              <a:ext cx="29772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cxnSp>
          <p:nvCxnSpPr>
            <p:cNvPr id="186" name="直線矢印コネクタ 46"/>
            <p:cNvCxnSpPr/>
            <p:nvPr/>
          </p:nvCxnSpPr>
          <p:spPr>
            <a:xfrm flipH="1">
              <a:off x="8451000" y="1884240"/>
              <a:ext cx="29772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sp>
          <p:nvSpPr>
            <p:cNvPr id="187" name="直線コネクタ 47"/>
            <p:cNvSpPr/>
            <p:nvPr/>
          </p:nvSpPr>
          <p:spPr>
            <a:xfrm>
              <a:off x="8748720" y="1566720"/>
              <a:ext cx="0" cy="3319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263"/>
          <p:cNvGrpSpPr/>
          <p:nvPr/>
        </p:nvGrpSpPr>
        <p:grpSpPr>
          <a:xfrm>
            <a:off x="6321600" y="1392120"/>
            <a:ext cx="2066760" cy="1714680"/>
            <a:chOff x="6321600" y="1392120"/>
            <a:chExt cx="2066760" cy="1714680"/>
          </a:xfrm>
        </p:grpSpPr>
        <p:sp>
          <p:nvSpPr>
            <p:cNvPr id="189" name="正方形/長方形 36"/>
            <p:cNvSpPr/>
            <p:nvPr/>
          </p:nvSpPr>
          <p:spPr>
            <a:xfrm>
              <a:off x="7093080" y="1658880"/>
              <a:ext cx="433080" cy="709560"/>
            </a:xfrm>
            <a:prstGeom prst="rect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正方形/長方形 37"/>
            <p:cNvSpPr/>
            <p:nvPr/>
          </p:nvSpPr>
          <p:spPr>
            <a:xfrm>
              <a:off x="6321600" y="2244600"/>
              <a:ext cx="295200" cy="530280"/>
            </a:xfrm>
            <a:prstGeom prst="rect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正方形/長方形 38"/>
            <p:cNvSpPr/>
            <p:nvPr/>
          </p:nvSpPr>
          <p:spPr>
            <a:xfrm>
              <a:off x="7956720" y="1392120"/>
              <a:ext cx="431640" cy="709560"/>
            </a:xfrm>
            <a:prstGeom prst="rect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直線コネクタ 16"/>
            <p:cNvSpPr/>
            <p:nvPr/>
          </p:nvSpPr>
          <p:spPr>
            <a:xfrm>
              <a:off x="6467400" y="2760840"/>
              <a:ext cx="0" cy="34596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直線コネクタ 49"/>
            <p:cNvSpPr/>
            <p:nvPr/>
          </p:nvSpPr>
          <p:spPr>
            <a:xfrm>
              <a:off x="7302600" y="2365560"/>
              <a:ext cx="0" cy="36828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線コネクタ 50"/>
            <p:cNvSpPr/>
            <p:nvPr/>
          </p:nvSpPr>
          <p:spPr>
            <a:xfrm>
              <a:off x="8172720" y="2097000"/>
              <a:ext cx="0" cy="63972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18"/>
            <p:cNvSpPr/>
            <p:nvPr/>
          </p:nvSpPr>
          <p:spPr>
            <a:xfrm>
              <a:off x="6477120" y="3100680"/>
              <a:ext cx="130968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53"/>
            <p:cNvSpPr/>
            <p:nvPr/>
          </p:nvSpPr>
          <p:spPr>
            <a:xfrm>
              <a:off x="7770960" y="2719440"/>
              <a:ext cx="0" cy="38736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55"/>
            <p:cNvSpPr/>
            <p:nvPr/>
          </p:nvSpPr>
          <p:spPr>
            <a:xfrm>
              <a:off x="7319880" y="2725920"/>
              <a:ext cx="8478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グループ化 56"/>
          <p:cNvGrpSpPr/>
          <p:nvPr/>
        </p:nvGrpSpPr>
        <p:grpSpPr>
          <a:xfrm>
            <a:off x="5475240" y="361800"/>
            <a:ext cx="2841840" cy="2619360"/>
            <a:chOff x="5475240" y="361800"/>
            <a:chExt cx="2841840" cy="2619360"/>
          </a:xfrm>
        </p:grpSpPr>
        <p:sp>
          <p:nvSpPr>
            <p:cNvPr id="199" name="正方形/長方形 25"/>
            <p:cNvSpPr/>
            <p:nvPr/>
          </p:nvSpPr>
          <p:spPr>
            <a:xfrm>
              <a:off x="5475240" y="2448000"/>
              <a:ext cx="29520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正方形/長方形 26"/>
            <p:cNvSpPr/>
            <p:nvPr/>
          </p:nvSpPr>
          <p:spPr>
            <a:xfrm>
              <a:off x="7159680" y="1736640"/>
              <a:ext cx="293400" cy="531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正方形/長方形 28"/>
            <p:cNvSpPr/>
            <p:nvPr/>
          </p:nvSpPr>
          <p:spPr>
            <a:xfrm>
              <a:off x="8023680" y="1471320"/>
              <a:ext cx="29340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グループ化 48"/>
            <p:cNvGrpSpPr/>
            <p:nvPr/>
          </p:nvGrpSpPr>
          <p:grpSpPr>
            <a:xfrm>
              <a:off x="5600520" y="361800"/>
              <a:ext cx="2551680" cy="2068560"/>
              <a:chOff x="5600520" y="361800"/>
              <a:chExt cx="2551680" cy="2068560"/>
            </a:xfrm>
          </p:grpSpPr>
          <p:sp>
            <p:nvSpPr>
              <p:cNvPr id="203" name="直線コネクタ 58"/>
              <p:cNvSpPr/>
              <p:nvPr/>
            </p:nvSpPr>
            <p:spPr>
              <a:xfrm>
                <a:off x="5614560" y="363240"/>
                <a:ext cx="0" cy="2067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59"/>
              <p:cNvSpPr/>
              <p:nvPr/>
            </p:nvSpPr>
            <p:spPr>
              <a:xfrm>
                <a:off x="8152200" y="571320"/>
                <a:ext cx="0" cy="898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60"/>
              <p:cNvSpPr/>
              <p:nvPr/>
            </p:nvSpPr>
            <p:spPr>
              <a:xfrm>
                <a:off x="7305840" y="577440"/>
                <a:ext cx="0" cy="1149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61"/>
              <p:cNvSpPr/>
              <p:nvPr/>
            </p:nvSpPr>
            <p:spPr>
              <a:xfrm>
                <a:off x="5600520" y="361800"/>
                <a:ext cx="21484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62"/>
              <p:cNvSpPr/>
              <p:nvPr/>
            </p:nvSpPr>
            <p:spPr>
              <a:xfrm>
                <a:off x="7739640" y="363240"/>
                <a:ext cx="0" cy="225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線コネクタ 63"/>
              <p:cNvSpPr/>
              <p:nvPr/>
            </p:nvSpPr>
            <p:spPr>
              <a:xfrm>
                <a:off x="7297920" y="583920"/>
                <a:ext cx="84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" name="テキスト ボックス 1"/>
          <p:cNvSpPr/>
          <p:nvPr/>
        </p:nvSpPr>
        <p:spPr>
          <a:xfrm>
            <a:off x="6804000" y="3255840"/>
            <a:ext cx="927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気づま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テキスト ボックス 21"/>
          <p:cNvSpPr/>
          <p:nvPr/>
        </p:nvSpPr>
        <p:spPr>
          <a:xfrm>
            <a:off x="7738920" y="3227400"/>
            <a:ext cx="1081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そらした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グループ化 2"/>
          <p:cNvGrpSpPr/>
          <p:nvPr/>
        </p:nvGrpSpPr>
        <p:grpSpPr>
          <a:xfrm>
            <a:off x="1927080" y="992160"/>
            <a:ext cx="5080320" cy="3915360"/>
            <a:chOff x="1927080" y="992160"/>
            <a:chExt cx="5080320" cy="3915360"/>
          </a:xfrm>
        </p:grpSpPr>
        <p:grpSp>
          <p:nvGrpSpPr>
            <p:cNvPr id="212" name="グループ化 2"/>
            <p:cNvGrpSpPr/>
            <p:nvPr/>
          </p:nvGrpSpPr>
          <p:grpSpPr>
            <a:xfrm>
              <a:off x="1927080" y="992160"/>
              <a:ext cx="5080320" cy="3500640"/>
              <a:chOff x="1927080" y="992160"/>
              <a:chExt cx="5080320" cy="3500640"/>
            </a:xfrm>
          </p:grpSpPr>
          <p:sp>
            <p:nvSpPr>
              <p:cNvPr id="213" name="テキスト ボックス 3"/>
              <p:cNvSpPr/>
              <p:nvPr/>
            </p:nvSpPr>
            <p:spPr>
              <a:xfrm>
                <a:off x="2052720" y="992160"/>
                <a:ext cx="60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"/>
                    <a:ea typeface="ＭＳ Ｐ明朝"/>
                  </a:rPr>
                  <a:t>(bpm)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14" name="グラフ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7080" y="1164240"/>
                <a:ext cx="5080320" cy="332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テキスト ボックス 25"/>
            <p:cNvSpPr/>
            <p:nvPr/>
          </p:nvSpPr>
          <p:spPr>
            <a:xfrm>
              <a:off x="3892320" y="450864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心拍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テキスト ボックス 4"/>
          <p:cNvSpPr/>
          <p:nvPr/>
        </p:nvSpPr>
        <p:spPr>
          <a:xfrm>
            <a:off x="-36360" y="111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卒論の結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心拍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1"/>
          <p:cNvSpPr/>
          <p:nvPr/>
        </p:nvSpPr>
        <p:spPr>
          <a:xfrm>
            <a:off x="2503440" y="54514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気づまり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感じる地点で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増加し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グループ化 21"/>
          <p:cNvGrpSpPr/>
          <p:nvPr/>
        </p:nvGrpSpPr>
        <p:grpSpPr>
          <a:xfrm>
            <a:off x="2682720" y="1957320"/>
            <a:ext cx="3089520" cy="1222560"/>
            <a:chOff x="2682720" y="1957320"/>
            <a:chExt cx="3089520" cy="1222560"/>
          </a:xfrm>
        </p:grpSpPr>
        <p:sp>
          <p:nvSpPr>
            <p:cNvPr id="219" name="正方形/長方形 7"/>
            <p:cNvSpPr/>
            <p:nvPr/>
          </p:nvSpPr>
          <p:spPr>
            <a:xfrm>
              <a:off x="2682720" y="2691000"/>
              <a:ext cx="253800" cy="488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正方形/長方形 8"/>
            <p:cNvSpPr/>
            <p:nvPr/>
          </p:nvSpPr>
          <p:spPr>
            <a:xfrm>
              <a:off x="5467680" y="1957320"/>
              <a:ext cx="304560" cy="65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グループ化 22"/>
          <p:cNvGrpSpPr/>
          <p:nvPr/>
        </p:nvGrpSpPr>
        <p:grpSpPr>
          <a:xfrm>
            <a:off x="3622680" y="1862280"/>
            <a:ext cx="2247840" cy="1150920"/>
            <a:chOff x="3622680" y="1862280"/>
            <a:chExt cx="2247840" cy="1150920"/>
          </a:xfrm>
        </p:grpSpPr>
        <p:sp>
          <p:nvSpPr>
            <p:cNvPr id="222" name="正方形/長方形 10"/>
            <p:cNvSpPr/>
            <p:nvPr/>
          </p:nvSpPr>
          <p:spPr>
            <a:xfrm>
              <a:off x="5378400" y="1862280"/>
              <a:ext cx="492120" cy="868320"/>
            </a:xfrm>
            <a:prstGeom prst="rect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正方形/長方形 11"/>
            <p:cNvSpPr/>
            <p:nvPr/>
          </p:nvSpPr>
          <p:spPr>
            <a:xfrm>
              <a:off x="3622680" y="2525760"/>
              <a:ext cx="252360" cy="487440"/>
            </a:xfrm>
            <a:prstGeom prst="rect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テキスト ボックス 1"/>
          <p:cNvSpPr/>
          <p:nvPr/>
        </p:nvSpPr>
        <p:spPr>
          <a:xfrm>
            <a:off x="5157720" y="3944880"/>
            <a:ext cx="927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気づま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21"/>
          <p:cNvSpPr/>
          <p:nvPr/>
        </p:nvSpPr>
        <p:spPr>
          <a:xfrm>
            <a:off x="6012000" y="3903840"/>
            <a:ext cx="1081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そらした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グループ化 5"/>
          <p:cNvGrpSpPr/>
          <p:nvPr/>
        </p:nvGrpSpPr>
        <p:grpSpPr>
          <a:xfrm>
            <a:off x="33480" y="620640"/>
            <a:ext cx="4322520" cy="3279600"/>
            <a:chOff x="33480" y="620640"/>
            <a:chExt cx="4322520" cy="3279600"/>
          </a:xfrm>
        </p:grpSpPr>
        <p:pic>
          <p:nvPicPr>
            <p:cNvPr id="227" name="グラフ 20" descr=""/>
            <p:cNvPicPr/>
            <p:nvPr/>
          </p:nvPicPr>
          <p:blipFill>
            <a:blip r:embed="rId1"/>
            <a:stretch/>
          </p:blipFill>
          <p:spPr>
            <a:xfrm>
              <a:off x="33480" y="620640"/>
              <a:ext cx="3941280" cy="27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テキスト ボックス 25"/>
            <p:cNvSpPr/>
            <p:nvPr/>
          </p:nvSpPr>
          <p:spPr>
            <a:xfrm>
              <a:off x="758160" y="3501360"/>
              <a:ext cx="302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皮膚コンダクタン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テキスト ボックス 1"/>
            <p:cNvSpPr/>
            <p:nvPr/>
          </p:nvSpPr>
          <p:spPr>
            <a:xfrm>
              <a:off x="2466360" y="2926440"/>
              <a:ext cx="926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気づま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テキスト ボックス 21"/>
            <p:cNvSpPr/>
            <p:nvPr/>
          </p:nvSpPr>
          <p:spPr>
            <a:xfrm>
              <a:off x="3276000" y="2854440"/>
              <a:ext cx="1080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目を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そらした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グループ化 6"/>
          <p:cNvGrpSpPr/>
          <p:nvPr/>
        </p:nvGrpSpPr>
        <p:grpSpPr>
          <a:xfrm>
            <a:off x="4859280" y="549360"/>
            <a:ext cx="4284720" cy="3350160"/>
            <a:chOff x="4859280" y="549360"/>
            <a:chExt cx="4284720" cy="3350160"/>
          </a:xfrm>
        </p:grpSpPr>
        <p:pic>
          <p:nvPicPr>
            <p:cNvPr id="232" name="グラフ 23" descr=""/>
            <p:cNvPicPr/>
            <p:nvPr/>
          </p:nvPicPr>
          <p:blipFill>
            <a:blip r:embed="rId2"/>
            <a:stretch/>
          </p:blipFill>
          <p:spPr>
            <a:xfrm>
              <a:off x="4859280" y="549360"/>
              <a:ext cx="3894840" cy="28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テキスト ボックス 25"/>
            <p:cNvSpPr/>
            <p:nvPr/>
          </p:nvSpPr>
          <p:spPr>
            <a:xfrm>
              <a:off x="5874840" y="350064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指尖血流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1"/>
            <p:cNvSpPr/>
            <p:nvPr/>
          </p:nvSpPr>
          <p:spPr>
            <a:xfrm>
              <a:off x="7252200" y="2872800"/>
              <a:ext cx="927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気づま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21"/>
            <p:cNvSpPr/>
            <p:nvPr/>
          </p:nvSpPr>
          <p:spPr>
            <a:xfrm>
              <a:off x="8062920" y="2844000"/>
              <a:ext cx="108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目を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そらした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テキスト ボックス 4"/>
          <p:cNvSpPr/>
          <p:nvPr/>
        </p:nvSpPr>
        <p:spPr>
          <a:xfrm>
            <a:off x="-36360" y="1112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卒論の結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皮膚コンダクタンス・指尖血流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テキスト ボックス 1"/>
          <p:cNvSpPr/>
          <p:nvPr/>
        </p:nvSpPr>
        <p:spPr>
          <a:xfrm>
            <a:off x="96840" y="4437000"/>
            <a:ext cx="49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条件に比べ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直視条件で上昇し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安静期に比べ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距離段階後半で上昇し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グループ化 132"/>
          <p:cNvGrpSpPr/>
          <p:nvPr/>
        </p:nvGrpSpPr>
        <p:grpSpPr>
          <a:xfrm>
            <a:off x="650880" y="692280"/>
            <a:ext cx="3129120" cy="1819080"/>
            <a:chOff x="650880" y="692280"/>
            <a:chExt cx="3129120" cy="1819080"/>
          </a:xfrm>
        </p:grpSpPr>
        <p:grpSp>
          <p:nvGrpSpPr>
            <p:cNvPr id="239" name="グループ化 87"/>
            <p:cNvGrpSpPr/>
            <p:nvPr/>
          </p:nvGrpSpPr>
          <p:grpSpPr>
            <a:xfrm>
              <a:off x="788400" y="692280"/>
              <a:ext cx="2847240" cy="1293480"/>
              <a:chOff x="788400" y="692280"/>
              <a:chExt cx="2847240" cy="1293480"/>
            </a:xfrm>
          </p:grpSpPr>
          <p:sp>
            <p:nvSpPr>
              <p:cNvPr id="240" name="直線コネクタ 88"/>
              <p:cNvSpPr/>
              <p:nvPr/>
            </p:nvSpPr>
            <p:spPr>
              <a:xfrm>
                <a:off x="799200" y="703080"/>
                <a:ext cx="0" cy="1282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直線コネクタ 89"/>
              <p:cNvSpPr/>
              <p:nvPr/>
            </p:nvSpPr>
            <p:spPr>
              <a:xfrm>
                <a:off x="3626280" y="949320"/>
                <a:ext cx="0" cy="27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直線コネクタ 90"/>
              <p:cNvSpPr/>
              <p:nvPr/>
            </p:nvSpPr>
            <p:spPr>
              <a:xfrm>
                <a:off x="2924280" y="931680"/>
                <a:ext cx="0" cy="330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直線コネクタ 91"/>
              <p:cNvSpPr/>
              <p:nvPr/>
            </p:nvSpPr>
            <p:spPr>
              <a:xfrm>
                <a:off x="788400" y="703080"/>
                <a:ext cx="24789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直線コネクタ 92"/>
              <p:cNvSpPr/>
              <p:nvPr/>
            </p:nvSpPr>
            <p:spPr>
              <a:xfrm>
                <a:off x="3279960" y="692280"/>
                <a:ext cx="0" cy="23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直線コネクタ 93"/>
              <p:cNvSpPr/>
              <p:nvPr/>
            </p:nvSpPr>
            <p:spPr>
              <a:xfrm>
                <a:off x="2919600" y="939600"/>
                <a:ext cx="7160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正方形/長方形 94"/>
            <p:cNvSpPr/>
            <p:nvPr/>
          </p:nvSpPr>
          <p:spPr>
            <a:xfrm>
              <a:off x="650880" y="1978200"/>
              <a:ext cx="30636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正方形/長方形 95"/>
            <p:cNvSpPr/>
            <p:nvPr/>
          </p:nvSpPr>
          <p:spPr>
            <a:xfrm>
              <a:off x="2760840" y="1268280"/>
              <a:ext cx="30456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正方形/長方形 96"/>
            <p:cNvSpPr/>
            <p:nvPr/>
          </p:nvSpPr>
          <p:spPr>
            <a:xfrm>
              <a:off x="3475440" y="1233360"/>
              <a:ext cx="30456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グループ化 9"/>
          <p:cNvGrpSpPr/>
          <p:nvPr/>
        </p:nvGrpSpPr>
        <p:grpSpPr>
          <a:xfrm>
            <a:off x="3850560" y="1341360"/>
            <a:ext cx="246600" cy="376200"/>
            <a:chOff x="3850560" y="1341360"/>
            <a:chExt cx="246600" cy="376200"/>
          </a:xfrm>
        </p:grpSpPr>
        <p:cxnSp>
          <p:nvCxnSpPr>
            <p:cNvPr id="250" name="直線矢印コネクタ 115"/>
            <p:cNvCxnSpPr/>
            <p:nvPr/>
          </p:nvCxnSpPr>
          <p:spPr>
            <a:xfrm flipH="1">
              <a:off x="3850560" y="1351800"/>
              <a:ext cx="24660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cxnSp>
          <p:nvCxnSpPr>
            <p:cNvPr id="251" name="直線矢印コネクタ 116"/>
            <p:cNvCxnSpPr/>
            <p:nvPr/>
          </p:nvCxnSpPr>
          <p:spPr>
            <a:xfrm flipH="1">
              <a:off x="3850560" y="1706400"/>
              <a:ext cx="246600" cy="108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sp>
          <p:nvSpPr>
            <p:cNvPr id="252" name="直線コネクタ 117"/>
            <p:cNvSpPr/>
            <p:nvPr/>
          </p:nvSpPr>
          <p:spPr>
            <a:xfrm>
              <a:off x="4097160" y="1341360"/>
              <a:ext cx="0" cy="3762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グループ化 137"/>
          <p:cNvGrpSpPr/>
          <p:nvPr/>
        </p:nvGrpSpPr>
        <p:grpSpPr>
          <a:xfrm>
            <a:off x="5467320" y="939960"/>
            <a:ext cx="3114720" cy="1161720"/>
            <a:chOff x="5467320" y="939960"/>
            <a:chExt cx="3114720" cy="1161720"/>
          </a:xfrm>
        </p:grpSpPr>
        <p:sp>
          <p:nvSpPr>
            <p:cNvPr id="254" name="正方形/長方形 106"/>
            <p:cNvSpPr/>
            <p:nvPr/>
          </p:nvSpPr>
          <p:spPr>
            <a:xfrm>
              <a:off x="5467320" y="1238400"/>
              <a:ext cx="306360" cy="36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正方形/長方形 107"/>
            <p:cNvSpPr/>
            <p:nvPr/>
          </p:nvSpPr>
          <p:spPr>
            <a:xfrm>
              <a:off x="6870600" y="1542960"/>
              <a:ext cx="306360" cy="442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正方形/長方形 108"/>
            <p:cNvSpPr/>
            <p:nvPr/>
          </p:nvSpPr>
          <p:spPr>
            <a:xfrm>
              <a:off x="7566120" y="1657440"/>
              <a:ext cx="304560" cy="44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正方形/長方形 109"/>
            <p:cNvSpPr/>
            <p:nvPr/>
          </p:nvSpPr>
          <p:spPr>
            <a:xfrm>
              <a:off x="8275680" y="1595520"/>
              <a:ext cx="306360" cy="44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正方形/長方形 114"/>
            <p:cNvSpPr/>
            <p:nvPr/>
          </p:nvSpPr>
          <p:spPr>
            <a:xfrm>
              <a:off x="6140160" y="1670040"/>
              <a:ext cx="306360" cy="36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線コネクタ 118"/>
            <p:cNvSpPr/>
            <p:nvPr/>
          </p:nvSpPr>
          <p:spPr>
            <a:xfrm>
              <a:off x="5627520" y="939960"/>
              <a:ext cx="0" cy="293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線コネクタ 120"/>
            <p:cNvSpPr/>
            <p:nvPr/>
          </p:nvSpPr>
          <p:spPr>
            <a:xfrm>
              <a:off x="6288120" y="1303200"/>
              <a:ext cx="0" cy="36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直線コネクタ 121"/>
            <p:cNvSpPr/>
            <p:nvPr/>
          </p:nvSpPr>
          <p:spPr>
            <a:xfrm>
              <a:off x="5616360" y="950760"/>
              <a:ext cx="1766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直線コネクタ 122"/>
            <p:cNvSpPr/>
            <p:nvPr/>
          </p:nvSpPr>
          <p:spPr>
            <a:xfrm>
              <a:off x="7373880" y="944640"/>
              <a:ext cx="0" cy="36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線コネクタ 123"/>
            <p:cNvSpPr/>
            <p:nvPr/>
          </p:nvSpPr>
          <p:spPr>
            <a:xfrm>
              <a:off x="6302160" y="1319040"/>
              <a:ext cx="213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直線コネクタ 124"/>
            <p:cNvSpPr/>
            <p:nvPr/>
          </p:nvSpPr>
          <p:spPr>
            <a:xfrm>
              <a:off x="7013520" y="13096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線コネクタ 125"/>
            <p:cNvSpPr/>
            <p:nvPr/>
          </p:nvSpPr>
          <p:spPr>
            <a:xfrm>
              <a:off x="7715160" y="1322280"/>
              <a:ext cx="0" cy="34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直線コネクタ 126"/>
            <p:cNvSpPr/>
            <p:nvPr/>
          </p:nvSpPr>
          <p:spPr>
            <a:xfrm>
              <a:off x="8429760" y="1320840"/>
              <a:ext cx="0" cy="26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グループ化 4"/>
          <p:cNvGrpSpPr/>
          <p:nvPr/>
        </p:nvGrpSpPr>
        <p:grpSpPr>
          <a:xfrm>
            <a:off x="582480" y="1149480"/>
            <a:ext cx="3268800" cy="1622160"/>
            <a:chOff x="582480" y="1149480"/>
            <a:chExt cx="3268800" cy="1622160"/>
          </a:xfrm>
        </p:grpSpPr>
        <p:grpSp>
          <p:nvGrpSpPr>
            <p:cNvPr id="268" name="グループ化 1"/>
            <p:cNvGrpSpPr/>
            <p:nvPr/>
          </p:nvGrpSpPr>
          <p:grpSpPr>
            <a:xfrm>
              <a:off x="582480" y="1149480"/>
              <a:ext cx="3268800" cy="1622160"/>
              <a:chOff x="582480" y="1149480"/>
              <a:chExt cx="3268800" cy="1622160"/>
            </a:xfrm>
          </p:grpSpPr>
          <p:sp>
            <p:nvSpPr>
              <p:cNvPr id="269" name="直線コネクタ 104"/>
              <p:cNvSpPr/>
              <p:nvPr/>
            </p:nvSpPr>
            <p:spPr>
              <a:xfrm>
                <a:off x="2906640" y="2344680"/>
                <a:ext cx="0" cy="42696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0" name="グループ化 136"/>
              <p:cNvGrpSpPr/>
              <p:nvPr/>
            </p:nvGrpSpPr>
            <p:grpSpPr>
              <a:xfrm>
                <a:off x="582480" y="1149480"/>
                <a:ext cx="3268800" cy="1608120"/>
                <a:chOff x="582480" y="1149480"/>
                <a:chExt cx="3268800" cy="1608120"/>
              </a:xfrm>
            </p:grpSpPr>
            <p:sp>
              <p:nvSpPr>
                <p:cNvPr id="271" name="正方形/長方形 97"/>
                <p:cNvSpPr/>
                <p:nvPr/>
              </p:nvSpPr>
              <p:spPr>
                <a:xfrm>
                  <a:off x="2691000" y="1177920"/>
                  <a:ext cx="447480" cy="708120"/>
                </a:xfrm>
                <a:prstGeom prst="rect">
                  <a:avLst/>
                </a:prstGeom>
                <a:noFill/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正方形/長方形 98"/>
                <p:cNvSpPr/>
                <p:nvPr/>
              </p:nvSpPr>
              <p:spPr>
                <a:xfrm>
                  <a:off x="2062080" y="1517760"/>
                  <a:ext cx="304560" cy="530280"/>
                </a:xfrm>
                <a:prstGeom prst="rect">
                  <a:avLst/>
                </a:prstGeom>
                <a:noFill/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正方形/長方形 99"/>
                <p:cNvSpPr/>
                <p:nvPr/>
              </p:nvSpPr>
              <p:spPr>
                <a:xfrm>
                  <a:off x="3405240" y="1149480"/>
                  <a:ext cx="446040" cy="708120"/>
                </a:xfrm>
                <a:prstGeom prst="rect">
                  <a:avLst/>
                </a:prstGeom>
                <a:noFill/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" name="直線コネクタ 100"/>
                <p:cNvSpPr/>
                <p:nvPr/>
              </p:nvSpPr>
              <p:spPr>
                <a:xfrm>
                  <a:off x="2205000" y="2055960"/>
                  <a:ext cx="0" cy="291960"/>
                </a:xfrm>
                <a:prstGeom prst="line">
                  <a:avLst/>
                </a:prstGeom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01"/>
                <p:cNvSpPr/>
                <p:nvPr/>
              </p:nvSpPr>
              <p:spPr>
                <a:xfrm>
                  <a:off x="2906640" y="1887480"/>
                  <a:ext cx="0" cy="453960"/>
                </a:xfrm>
                <a:prstGeom prst="line">
                  <a:avLst/>
                </a:prstGeom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02"/>
                <p:cNvSpPr/>
                <p:nvPr/>
              </p:nvSpPr>
              <p:spPr>
                <a:xfrm>
                  <a:off x="3627720" y="1868760"/>
                  <a:ext cx="0" cy="469800"/>
                </a:xfrm>
                <a:prstGeom prst="line">
                  <a:avLst/>
                </a:prstGeom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直線コネクタ 103"/>
                <p:cNvSpPr/>
                <p:nvPr/>
              </p:nvSpPr>
              <p:spPr>
                <a:xfrm>
                  <a:off x="794880" y="2757600"/>
                  <a:ext cx="2122560" cy="0"/>
                </a:xfrm>
                <a:prstGeom prst="line">
                  <a:avLst/>
                </a:prstGeom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直線コネクタ 105"/>
                <p:cNvSpPr/>
                <p:nvPr/>
              </p:nvSpPr>
              <p:spPr>
                <a:xfrm>
                  <a:off x="2203560" y="2341800"/>
                  <a:ext cx="1427040" cy="0"/>
                </a:xfrm>
                <a:prstGeom prst="line">
                  <a:avLst/>
                </a:prstGeom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正方形/長方形 133"/>
                <p:cNvSpPr/>
                <p:nvPr/>
              </p:nvSpPr>
              <p:spPr>
                <a:xfrm>
                  <a:off x="582480" y="1898640"/>
                  <a:ext cx="450720" cy="706320"/>
                </a:xfrm>
                <a:prstGeom prst="rect">
                  <a:avLst/>
                </a:prstGeom>
                <a:noFill/>
                <a:ln w="2556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0" name="直線コネクタ 134"/>
            <p:cNvSpPr/>
            <p:nvPr/>
          </p:nvSpPr>
          <p:spPr>
            <a:xfrm>
              <a:off x="806040" y="2589120"/>
              <a:ext cx="0" cy="15552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テキスト ボックス 1"/>
          <p:cNvSpPr/>
          <p:nvPr/>
        </p:nvSpPr>
        <p:spPr>
          <a:xfrm>
            <a:off x="5557680" y="4437000"/>
            <a:ext cx="3427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視線による差はなかっ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実験開始と同時に下降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し、それ以降変化しなかっ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テキスト ボックス 4"/>
          <p:cNvSpPr/>
          <p:nvPr/>
        </p:nvSpPr>
        <p:spPr>
          <a:xfrm>
            <a:off x="-100080" y="1112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卒論の結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対人距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グループ化 6"/>
          <p:cNvGrpSpPr/>
          <p:nvPr/>
        </p:nvGrpSpPr>
        <p:grpSpPr>
          <a:xfrm>
            <a:off x="4829040" y="1638360"/>
            <a:ext cx="3697560" cy="2837880"/>
            <a:chOff x="4829040" y="1638360"/>
            <a:chExt cx="3697560" cy="2837880"/>
          </a:xfrm>
        </p:grpSpPr>
        <p:pic>
          <p:nvPicPr>
            <p:cNvPr id="284" name="グラフ 7" descr=""/>
            <p:cNvPicPr/>
            <p:nvPr/>
          </p:nvPicPr>
          <p:blipFill>
            <a:blip r:embed="rId1"/>
            <a:stretch/>
          </p:blipFill>
          <p:spPr>
            <a:xfrm>
              <a:off x="4829040" y="1638360"/>
              <a:ext cx="369756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テキスト ボックス 8"/>
            <p:cNvSpPr/>
            <p:nvPr/>
          </p:nvSpPr>
          <p:spPr>
            <a:xfrm>
              <a:off x="6046920" y="40773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目をそらした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グループ化 3"/>
          <p:cNvGrpSpPr/>
          <p:nvPr/>
        </p:nvGrpSpPr>
        <p:grpSpPr>
          <a:xfrm>
            <a:off x="507960" y="1625760"/>
            <a:ext cx="3595680" cy="2882520"/>
            <a:chOff x="507960" y="1625760"/>
            <a:chExt cx="3595680" cy="2882520"/>
          </a:xfrm>
        </p:grpSpPr>
        <p:pic>
          <p:nvPicPr>
            <p:cNvPr id="287" name="グラフ 4" descr=""/>
            <p:cNvPicPr/>
            <p:nvPr/>
          </p:nvPicPr>
          <p:blipFill>
            <a:blip r:embed="rId2"/>
            <a:stretch/>
          </p:blipFill>
          <p:spPr>
            <a:xfrm>
              <a:off x="507960" y="1625760"/>
              <a:ext cx="35956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テキスト ボックス 5"/>
            <p:cNvSpPr/>
            <p:nvPr/>
          </p:nvSpPr>
          <p:spPr>
            <a:xfrm>
              <a:off x="1981440" y="4109400"/>
              <a:ext cx="110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気づま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グループ化 18"/>
          <p:cNvGrpSpPr/>
          <p:nvPr/>
        </p:nvGrpSpPr>
        <p:grpSpPr>
          <a:xfrm>
            <a:off x="6184800" y="1785960"/>
            <a:ext cx="1627200" cy="422280"/>
            <a:chOff x="6184800" y="1785960"/>
            <a:chExt cx="1627200" cy="422280"/>
          </a:xfrm>
        </p:grpSpPr>
        <p:grpSp>
          <p:nvGrpSpPr>
            <p:cNvPr id="290" name="グループ化 19"/>
            <p:cNvGrpSpPr/>
            <p:nvPr/>
          </p:nvGrpSpPr>
          <p:grpSpPr>
            <a:xfrm>
              <a:off x="6184800" y="1792080"/>
              <a:ext cx="1627200" cy="416160"/>
              <a:chOff x="6184800" y="1792080"/>
              <a:chExt cx="1627200" cy="416160"/>
            </a:xfrm>
          </p:grpSpPr>
          <p:sp>
            <p:nvSpPr>
              <p:cNvPr id="291" name="直線コネクタ 21"/>
              <p:cNvSpPr/>
              <p:nvPr/>
            </p:nvSpPr>
            <p:spPr>
              <a:xfrm>
                <a:off x="6197400" y="1800000"/>
                <a:ext cx="0" cy="408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直線コネクタ 22"/>
              <p:cNvSpPr/>
              <p:nvPr/>
            </p:nvSpPr>
            <p:spPr>
              <a:xfrm>
                <a:off x="6184800" y="1792080"/>
                <a:ext cx="162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直線コネクタ 20"/>
            <p:cNvSpPr/>
            <p:nvPr/>
          </p:nvSpPr>
          <p:spPr>
            <a:xfrm>
              <a:off x="7804080" y="1785960"/>
              <a:ext cx="0" cy="40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テキスト ボックス 1"/>
          <p:cNvSpPr/>
          <p:nvPr/>
        </p:nvSpPr>
        <p:spPr>
          <a:xfrm>
            <a:off x="1300320" y="5149800"/>
            <a:ext cx="65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条件に比べ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直視条件で対人距離は長くな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グループ化 18"/>
          <p:cNvGrpSpPr/>
          <p:nvPr/>
        </p:nvGrpSpPr>
        <p:grpSpPr>
          <a:xfrm>
            <a:off x="1825560" y="1332000"/>
            <a:ext cx="1522440" cy="422280"/>
            <a:chOff x="1825560" y="1332000"/>
            <a:chExt cx="1522440" cy="422280"/>
          </a:xfrm>
        </p:grpSpPr>
        <p:grpSp>
          <p:nvGrpSpPr>
            <p:cNvPr id="296" name="グループ化 19"/>
            <p:cNvGrpSpPr/>
            <p:nvPr/>
          </p:nvGrpSpPr>
          <p:grpSpPr>
            <a:xfrm>
              <a:off x="1825560" y="1338120"/>
              <a:ext cx="1522440" cy="416160"/>
              <a:chOff x="1825560" y="1338120"/>
              <a:chExt cx="1522440" cy="416160"/>
            </a:xfrm>
          </p:grpSpPr>
          <p:sp>
            <p:nvSpPr>
              <p:cNvPr id="297" name="直線コネクタ 26"/>
              <p:cNvSpPr/>
              <p:nvPr/>
            </p:nvSpPr>
            <p:spPr>
              <a:xfrm>
                <a:off x="1836360" y="1346040"/>
                <a:ext cx="0" cy="408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直線コネクタ 27"/>
              <p:cNvSpPr/>
              <p:nvPr/>
            </p:nvSpPr>
            <p:spPr>
              <a:xfrm>
                <a:off x="1825560" y="1338120"/>
                <a:ext cx="1522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直線コネクタ 25"/>
            <p:cNvSpPr/>
            <p:nvPr/>
          </p:nvSpPr>
          <p:spPr>
            <a:xfrm>
              <a:off x="3340080" y="1332000"/>
              <a:ext cx="0" cy="40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テキスト ボックス 4"/>
          <p:cNvSpPr/>
          <p:nvPr/>
        </p:nvSpPr>
        <p:spPr>
          <a:xfrm>
            <a:off x="-36360" y="1112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考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テキスト ボックス 1"/>
          <p:cNvSpPr/>
          <p:nvPr/>
        </p:nvSpPr>
        <p:spPr>
          <a:xfrm>
            <a:off x="34920" y="2278080"/>
            <a:ext cx="61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視線を合わせることで心拍数は増加する傾向があっ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他者が近づくことで増加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拍数はパーソナル・スペース境界付近で上昇してい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テキスト ボックス 1"/>
          <p:cNvSpPr/>
          <p:nvPr/>
        </p:nvSpPr>
        <p:spPr>
          <a:xfrm>
            <a:off x="106200" y="476280"/>
            <a:ext cx="561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緊張・不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視線を合わせることで緊張や不安が高まっ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モデルが近づいてくることで緊張・不安が高まっ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グループ化 11"/>
          <p:cNvGrpSpPr/>
          <p:nvPr/>
        </p:nvGrpSpPr>
        <p:grpSpPr>
          <a:xfrm>
            <a:off x="106200" y="685800"/>
            <a:ext cx="8623440" cy="1480320"/>
            <a:chOff x="106200" y="685800"/>
            <a:chExt cx="8623440" cy="1480320"/>
          </a:xfrm>
        </p:grpSpPr>
        <p:sp>
          <p:nvSpPr>
            <p:cNvPr id="304" name="テキスト ボックス 1"/>
            <p:cNvSpPr/>
            <p:nvPr/>
          </p:nvSpPr>
          <p:spPr>
            <a:xfrm>
              <a:off x="106200" y="1340640"/>
              <a:ext cx="684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先行研究と同様の結果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となっ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他者からの視線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や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他者の接近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は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ストレス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となる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5" name="Picture 25" descr="C:\Users\09hp122\AppData\Local\Microsoft\Windows\Temporary Internet Files\Content.IE5\UXY1D5MS\MP900409654[1].jpg"/>
            <p:cNvPicPr/>
            <p:nvPr/>
          </p:nvPicPr>
          <p:blipFill>
            <a:blip r:embed="rId1"/>
            <a:srcRect l="0" t="13158" r="0" b="25342"/>
            <a:stretch/>
          </p:blipFill>
          <p:spPr>
            <a:xfrm>
              <a:off x="6121440" y="685800"/>
              <a:ext cx="2608200" cy="107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グループ化 10"/>
          <p:cNvGrpSpPr/>
          <p:nvPr/>
        </p:nvGrpSpPr>
        <p:grpSpPr>
          <a:xfrm>
            <a:off x="34920" y="3500280"/>
            <a:ext cx="8280360" cy="3313440"/>
            <a:chOff x="34920" y="3500280"/>
            <a:chExt cx="8280360" cy="3313440"/>
          </a:xfrm>
        </p:grpSpPr>
        <p:sp>
          <p:nvSpPr>
            <p:cNvPr id="307" name="テキスト ボックス 1"/>
            <p:cNvSpPr/>
            <p:nvPr/>
          </p:nvSpPr>
          <p:spPr>
            <a:xfrm>
              <a:off x="34920" y="3500280"/>
              <a:ext cx="828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八重澤・吉田</a:t>
              </a: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(1981)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と野瀬ら</a:t>
              </a: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(2005)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と同じ結果になっ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心拍数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は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パーソナル・スペース侵害時のストレス反応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をとらえ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" name="グループ化 8"/>
            <p:cNvGrpSpPr/>
            <p:nvPr/>
          </p:nvGrpSpPr>
          <p:grpSpPr>
            <a:xfrm>
              <a:off x="1631520" y="4433040"/>
              <a:ext cx="2379600" cy="2380680"/>
              <a:chOff x="1631520" y="4433040"/>
              <a:chExt cx="2379600" cy="2380680"/>
            </a:xfrm>
          </p:grpSpPr>
          <p:pic>
            <p:nvPicPr>
              <p:cNvPr id="309" name="Picture 29" descr="C:\Users\09hp122\AppData\Local\Microsoft\Windows\Temporary Internet Files\Content.IE5\S7LYWM1T\MC900339206[1].wmf"/>
              <p:cNvPicPr/>
              <p:nvPr/>
            </p:nvPicPr>
            <p:blipFill>
              <a:blip r:embed="rId2"/>
              <a:stretch/>
            </p:blipFill>
            <p:spPr>
              <a:xfrm>
                <a:off x="1631520" y="4433040"/>
                <a:ext cx="2379600" cy="238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テキスト ボックス 32"/>
              <p:cNvSpPr/>
              <p:nvPr/>
            </p:nvSpPr>
            <p:spPr>
              <a:xfrm>
                <a:off x="2495520" y="5703480"/>
                <a:ext cx="120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ff0000"/>
                    </a:solidFill>
                    <a:latin typeface="Calibri"/>
                  </a:rPr>
                  <a:t>ドキドキ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" name="グループ化 7"/>
            <p:cNvGrpSpPr/>
            <p:nvPr/>
          </p:nvGrpSpPr>
          <p:grpSpPr>
            <a:xfrm>
              <a:off x="4139280" y="4292640"/>
              <a:ext cx="3888360" cy="1425600"/>
              <a:chOff x="4139280" y="4292640"/>
              <a:chExt cx="3888360" cy="1425600"/>
            </a:xfrm>
          </p:grpSpPr>
          <p:sp>
            <p:nvSpPr>
              <p:cNvPr id="312" name="雲形吹き出し 1"/>
              <p:cNvSpPr/>
              <p:nvPr/>
            </p:nvSpPr>
            <p:spPr>
              <a:xfrm>
                <a:off x="4139280" y="4292640"/>
                <a:ext cx="3888360" cy="1425600"/>
              </a:xfrm>
              <a:prstGeom prst="cloudCallout">
                <a:avLst>
                  <a:gd name="adj1" fmla="val -74453"/>
                  <a:gd name="adj2" fmla="val 18833"/>
                </a:avLst>
              </a:prstGeom>
              <a:solidFill>
                <a:srgbClr val="ccc1da"/>
              </a:solidFill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テキスト ボックス 3"/>
              <p:cNvSpPr/>
              <p:nvPr/>
            </p:nvSpPr>
            <p:spPr>
              <a:xfrm>
                <a:off x="4284000" y="4785840"/>
                <a:ext cx="374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Calibri"/>
                  </a:rPr>
                  <a:t>これ以上近づいてほしくないな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…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テキスト ボックス 4"/>
          <p:cNvSpPr/>
          <p:nvPr/>
        </p:nvSpPr>
        <p:spPr>
          <a:xfrm>
            <a:off x="-36360" y="1112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考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テキスト ボックス 1"/>
          <p:cNvSpPr/>
          <p:nvPr/>
        </p:nvSpPr>
        <p:spPr>
          <a:xfrm>
            <a:off x="468360" y="3583080"/>
            <a:ext cx="3600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皮膚コンダクタン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他者が近づくことで上昇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視線を合わせることで上昇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テキスト ボックス 1"/>
          <p:cNvSpPr/>
          <p:nvPr/>
        </p:nvSpPr>
        <p:spPr>
          <a:xfrm>
            <a:off x="468360" y="5048280"/>
            <a:ext cx="313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指尖血流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開始により下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テキスト ボックス 1"/>
          <p:cNvSpPr/>
          <p:nvPr/>
        </p:nvSpPr>
        <p:spPr>
          <a:xfrm>
            <a:off x="468360" y="54936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対人距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気づまり・目をそらしたい地点ともに視線を合わせることで長くなっ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グループ化 16"/>
          <p:cNvGrpSpPr/>
          <p:nvPr/>
        </p:nvGrpSpPr>
        <p:grpSpPr>
          <a:xfrm>
            <a:off x="468360" y="3573360"/>
            <a:ext cx="7991280" cy="1871640"/>
            <a:chOff x="468360" y="3573360"/>
            <a:chExt cx="7991280" cy="1871640"/>
          </a:xfrm>
        </p:grpSpPr>
        <p:sp>
          <p:nvSpPr>
            <p:cNvPr id="319" name="テキスト ボックス 1"/>
            <p:cNvSpPr/>
            <p:nvPr/>
          </p:nvSpPr>
          <p:spPr>
            <a:xfrm>
              <a:off x="468360" y="4510080"/>
              <a:ext cx="65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視線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による影響は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汗腺活動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に反映されやすい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0" name="グループ化 3"/>
            <p:cNvGrpSpPr/>
            <p:nvPr/>
          </p:nvGrpSpPr>
          <p:grpSpPr>
            <a:xfrm>
              <a:off x="4787640" y="3573360"/>
              <a:ext cx="3672000" cy="1871640"/>
              <a:chOff x="4787640" y="3573360"/>
              <a:chExt cx="3672000" cy="1871640"/>
            </a:xfrm>
          </p:grpSpPr>
          <p:sp>
            <p:nvSpPr>
              <p:cNvPr id="321" name="円形吹き出し 1"/>
              <p:cNvSpPr/>
              <p:nvPr/>
            </p:nvSpPr>
            <p:spPr>
              <a:xfrm>
                <a:off x="4787640" y="3723840"/>
                <a:ext cx="2087640" cy="857160"/>
              </a:xfrm>
              <a:prstGeom prst="wedgeEllipseCallout">
                <a:avLst>
                  <a:gd name="adj1" fmla="val 55231"/>
                  <a:gd name="adj2" fmla="val 38254"/>
                </a:avLst>
              </a:prstGeom>
              <a:solidFill>
                <a:srgbClr val="b7dee8"/>
              </a:soli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Calibri"/>
                  </a:rPr>
                  <a:t>見られてる！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22" name="Picture 12" descr="C:\Users\09hp122\AppData\Local\Microsoft\Windows\Temporary Internet Files\Content.IE5\UXY1D5MS\MC900240977[1].wmf"/>
              <p:cNvPicPr/>
              <p:nvPr/>
            </p:nvPicPr>
            <p:blipFill>
              <a:blip r:embed="rId1"/>
              <a:stretch/>
            </p:blipFill>
            <p:spPr>
              <a:xfrm>
                <a:off x="7163640" y="3573360"/>
                <a:ext cx="1296000" cy="18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3" name="テキスト ボックス 1"/>
          <p:cNvSpPr/>
          <p:nvPr/>
        </p:nvSpPr>
        <p:spPr>
          <a:xfrm>
            <a:off x="468360" y="5694480"/>
            <a:ext cx="82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Calibri"/>
              </a:rPr>
              <a:t>指尖血流量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ja-JP" sz="2400" spc="-1" strike="noStrike">
                <a:solidFill>
                  <a:srgbClr val="0066ff"/>
                </a:solidFill>
                <a:latin typeface="Calibri"/>
              </a:rPr>
              <a:t>パーソナル・スペース侵害時のストレス反応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Calibri"/>
              </a:rPr>
              <a:t>視線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による影響はとらえられな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´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グループ化 22"/>
          <p:cNvGrpSpPr/>
          <p:nvPr/>
        </p:nvGrpSpPr>
        <p:grpSpPr>
          <a:xfrm>
            <a:off x="861840" y="1192320"/>
            <a:ext cx="7929720" cy="2203200"/>
            <a:chOff x="861840" y="1192320"/>
            <a:chExt cx="7929720" cy="2203200"/>
          </a:xfrm>
        </p:grpSpPr>
        <p:sp>
          <p:nvSpPr>
            <p:cNvPr id="325" name="テキスト ボックス 1"/>
            <p:cNvSpPr/>
            <p:nvPr/>
          </p:nvSpPr>
          <p:spPr>
            <a:xfrm>
              <a:off x="3751920" y="1192320"/>
              <a:ext cx="50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視線を合わせる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と対人距離は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長くなる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6" name="Picture 13" descr="C:\Users\09hp122\AppData\Local\Microsoft\Windows\Temporary Internet Files\Content.IE5\UXY1D5MS\MC900054709[1].wmf"/>
            <p:cNvPicPr/>
            <p:nvPr/>
          </p:nvPicPr>
          <p:blipFill>
            <a:blip r:embed="rId2"/>
            <a:stretch/>
          </p:blipFill>
          <p:spPr>
            <a:xfrm>
              <a:off x="861840" y="1394280"/>
              <a:ext cx="2019960" cy="200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雲形吹き出し 23"/>
            <p:cNvSpPr/>
            <p:nvPr/>
          </p:nvSpPr>
          <p:spPr>
            <a:xfrm>
              <a:off x="3762360" y="1704960"/>
              <a:ext cx="2771640" cy="1485720"/>
            </a:xfrm>
            <a:prstGeom prst="cloudCallout">
              <a:avLst>
                <a:gd name="adj1" fmla="val -91726"/>
                <a:gd name="adj2" fmla="val -29273"/>
              </a:avLst>
            </a:prstGeom>
            <a:solidFill>
              <a:srgbClr val="ccc1da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テキスト ボックス 18"/>
            <p:cNvSpPr/>
            <p:nvPr/>
          </p:nvSpPr>
          <p:spPr>
            <a:xfrm>
              <a:off x="4139640" y="220392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ちょっと近いなぁ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31"/>
            <p:cNvSpPr/>
            <p:nvPr/>
          </p:nvSpPr>
          <p:spPr>
            <a:xfrm>
              <a:off x="1390320" y="184320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33"/>
            <p:cNvSpPr/>
            <p:nvPr/>
          </p:nvSpPr>
          <p:spPr>
            <a:xfrm flipH="1">
              <a:off x="1904400" y="1843200"/>
              <a:ext cx="455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テキスト ボックス 4"/>
          <p:cNvSpPr/>
          <p:nvPr/>
        </p:nvSpPr>
        <p:spPr>
          <a:xfrm>
            <a:off x="-36360" y="1112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1"/>
          <p:cNvSpPr/>
          <p:nvPr/>
        </p:nvSpPr>
        <p:spPr>
          <a:xfrm>
            <a:off x="1911240" y="4762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相手への接し方を考える</a:t>
            </a:r>
            <a:r>
              <a:rPr b="0" lang="ja-JP" sz="2400" spc="-1" strike="noStrike">
                <a:solidFill>
                  <a:srgbClr val="ff0101"/>
                </a:solidFill>
                <a:latin typeface="Calibri"/>
              </a:rPr>
              <a:t>手がか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な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テキスト ボックス 1"/>
          <p:cNvSpPr/>
          <p:nvPr/>
        </p:nvSpPr>
        <p:spPr>
          <a:xfrm>
            <a:off x="458640" y="907920"/>
            <a:ext cx="82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誰しも近づかれたり見つめられたりすることは不快にな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人差はあるけ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1"/>
          <p:cNvSpPr/>
          <p:nvPr/>
        </p:nvSpPr>
        <p:spPr>
          <a:xfrm>
            <a:off x="787320" y="5661000"/>
            <a:ext cx="75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ういうことに気を配ると、より相手と親しくなれるかも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グループ化 11"/>
          <p:cNvGrpSpPr/>
          <p:nvPr/>
        </p:nvGrpSpPr>
        <p:grpSpPr>
          <a:xfrm>
            <a:off x="755640" y="1413000"/>
            <a:ext cx="8064360" cy="2176200"/>
            <a:chOff x="755640" y="1413000"/>
            <a:chExt cx="8064360" cy="2176200"/>
          </a:xfrm>
        </p:grpSpPr>
        <p:grpSp>
          <p:nvGrpSpPr>
            <p:cNvPr id="336" name="グループ化 5"/>
            <p:cNvGrpSpPr/>
            <p:nvPr/>
          </p:nvGrpSpPr>
          <p:grpSpPr>
            <a:xfrm>
              <a:off x="755640" y="1413000"/>
              <a:ext cx="4935240" cy="759240"/>
              <a:chOff x="755640" y="1413000"/>
              <a:chExt cx="4935240" cy="759240"/>
            </a:xfrm>
          </p:grpSpPr>
          <p:sp>
            <p:nvSpPr>
              <p:cNvPr id="337" name="テキスト ボックス 1"/>
              <p:cNvSpPr/>
              <p:nvPr/>
            </p:nvSpPr>
            <p:spPr>
              <a:xfrm>
                <a:off x="755640" y="1413000"/>
                <a:ext cx="349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ff0000"/>
                    </a:solidFill>
                    <a:latin typeface="Calibri"/>
                  </a:rPr>
                  <a:t>・相手と適切な距離をとる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テキスト ボックス 1"/>
              <p:cNvSpPr/>
              <p:nvPr/>
            </p:nvSpPr>
            <p:spPr>
              <a:xfrm>
                <a:off x="900000" y="1773360"/>
                <a:ext cx="479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Calibri"/>
                  </a:rPr>
                  <a:t>近付きすぎると相手が不快に思ってしまう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グループ化 9"/>
            <p:cNvGrpSpPr/>
            <p:nvPr/>
          </p:nvGrpSpPr>
          <p:grpSpPr>
            <a:xfrm>
              <a:off x="4726800" y="1413000"/>
              <a:ext cx="4093200" cy="2176200"/>
              <a:chOff x="4726800" y="1413000"/>
              <a:chExt cx="4093200" cy="2176200"/>
            </a:xfrm>
          </p:grpSpPr>
          <p:grpSp>
            <p:nvGrpSpPr>
              <p:cNvPr id="340" name="グループ化 6"/>
              <p:cNvGrpSpPr/>
              <p:nvPr/>
            </p:nvGrpSpPr>
            <p:grpSpPr>
              <a:xfrm>
                <a:off x="4726800" y="1413000"/>
                <a:ext cx="4093200" cy="2176200"/>
                <a:chOff x="4726800" y="1413000"/>
                <a:chExt cx="4093200" cy="2176200"/>
              </a:xfrm>
            </p:grpSpPr>
            <p:pic>
              <p:nvPicPr>
                <p:cNvPr id="341" name="Picture 13" descr="C:\Users\09hp122\AppData\Local\Microsoft\Windows\Temporary Internet Files\Content.IE5\ZFGTZFAH\MP900444869[1].jpg"/>
                <p:cNvPicPr/>
                <p:nvPr/>
              </p:nvPicPr>
              <p:blipFill>
                <a:blip r:embed="rId1"/>
                <a:srcRect l="0" t="17883" r="0" b="21438"/>
                <a:stretch/>
              </p:blipFill>
              <p:spPr>
                <a:xfrm>
                  <a:off x="6085080" y="1413000"/>
                  <a:ext cx="2734920" cy="217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雲形吹き出し 1"/>
                <p:cNvSpPr/>
                <p:nvPr/>
              </p:nvSpPr>
              <p:spPr>
                <a:xfrm>
                  <a:off x="4726800" y="2374920"/>
                  <a:ext cx="1656000" cy="647640"/>
                </a:xfrm>
                <a:prstGeom prst="cloudCallout">
                  <a:avLst>
                    <a:gd name="adj1" fmla="val 66009"/>
                    <a:gd name="adj2" fmla="val -66837"/>
                  </a:avLst>
                </a:prstGeom>
                <a:solidFill>
                  <a:srgbClr val="b7dee8"/>
                </a:solidFill>
                <a:ln w="255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43" name="テキスト ボックス 2"/>
              <p:cNvSpPr/>
              <p:nvPr/>
            </p:nvSpPr>
            <p:spPr>
              <a:xfrm>
                <a:off x="4977000" y="2489760"/>
                <a:ext cx="13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Calibri"/>
                  </a:rPr>
                  <a:t>近いにゃ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4" name="グループ化 14"/>
          <p:cNvGrpSpPr/>
          <p:nvPr/>
        </p:nvGrpSpPr>
        <p:grpSpPr>
          <a:xfrm>
            <a:off x="539640" y="2637000"/>
            <a:ext cx="7777440" cy="2449800"/>
            <a:chOff x="539640" y="2637000"/>
            <a:chExt cx="7777440" cy="2449800"/>
          </a:xfrm>
        </p:grpSpPr>
        <p:grpSp>
          <p:nvGrpSpPr>
            <p:cNvPr id="345" name="グループ化 12"/>
            <p:cNvGrpSpPr/>
            <p:nvPr/>
          </p:nvGrpSpPr>
          <p:grpSpPr>
            <a:xfrm>
              <a:off x="539640" y="2637000"/>
              <a:ext cx="7777440" cy="2449800"/>
              <a:chOff x="539640" y="2637000"/>
              <a:chExt cx="7777440" cy="2449800"/>
            </a:xfrm>
          </p:grpSpPr>
          <p:pic>
            <p:nvPicPr>
              <p:cNvPr id="346" name="Picture 14" descr="C:\Users\09hp122\AppData\Local\Microsoft\Windows\Temporary Internet Files\Content.IE5\YP6CA8QQ\MP900402444[1].jpg"/>
              <p:cNvPicPr/>
              <p:nvPr/>
            </p:nvPicPr>
            <p:blipFill>
              <a:blip r:embed="rId2"/>
              <a:srcRect l="0" t="2498" r="0" b="12871"/>
              <a:stretch/>
            </p:blipFill>
            <p:spPr>
              <a:xfrm>
                <a:off x="539640" y="3045240"/>
                <a:ext cx="2374920" cy="2009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7" name="グループ化 3"/>
              <p:cNvGrpSpPr/>
              <p:nvPr/>
            </p:nvGrpSpPr>
            <p:grpSpPr>
              <a:xfrm>
                <a:off x="3277800" y="4292640"/>
                <a:ext cx="5039280" cy="794160"/>
                <a:chOff x="3277800" y="4292640"/>
                <a:chExt cx="5039280" cy="794160"/>
              </a:xfrm>
            </p:grpSpPr>
            <p:sp>
              <p:nvSpPr>
                <p:cNvPr id="348" name="テキスト ボックス 1"/>
                <p:cNvSpPr/>
                <p:nvPr/>
              </p:nvSpPr>
              <p:spPr>
                <a:xfrm>
                  <a:off x="3277800" y="4292640"/>
                  <a:ext cx="427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ff0000"/>
                      </a:solidFill>
                      <a:latin typeface="Calibri"/>
                    </a:rPr>
                    <a:t>・相手の目を見るのは適度に！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テキスト ボックス 1"/>
                <p:cNvSpPr/>
                <p:nvPr/>
              </p:nvSpPr>
              <p:spPr>
                <a:xfrm>
                  <a:off x="3442320" y="4687920"/>
                  <a:ext cx="487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alibri"/>
                    </a:rPr>
                    <a:t>見つめすぎると相手が不快に思ってしまう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0" name="雲形吹き出し 20"/>
              <p:cNvSpPr/>
              <p:nvPr/>
            </p:nvSpPr>
            <p:spPr>
              <a:xfrm>
                <a:off x="1995480" y="2637000"/>
                <a:ext cx="1655640" cy="647640"/>
              </a:xfrm>
              <a:prstGeom prst="cloudCallout">
                <a:avLst>
                  <a:gd name="adj1" fmla="val -32912"/>
                  <a:gd name="adj2" fmla="val 99240"/>
                </a:avLst>
              </a:prstGeom>
              <a:solidFill>
                <a:srgbClr val="ffff99"/>
              </a:solidFill>
              <a:ln w="25560">
                <a:solidFill>
                  <a:srgbClr val="fff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1" name="テキスト ボックス 21"/>
            <p:cNvSpPr/>
            <p:nvPr/>
          </p:nvSpPr>
          <p:spPr>
            <a:xfrm>
              <a:off x="2439000" y="274068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じー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C:\Users\09hp122\AppData\Local\Microsoft\Windows\Temporary Internet Files\Content.IE5\UXY1D5MS\MC900228383[1].wmf"/>
          <p:cNvPicPr/>
          <p:nvPr/>
        </p:nvPicPr>
        <p:blipFill>
          <a:blip r:embed="rId1"/>
          <a:stretch/>
        </p:blipFill>
        <p:spPr>
          <a:xfrm>
            <a:off x="755640" y="386064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Users\09hp122\AppData\Local\Microsoft\Windows\Temporary Internet Files\Content.IE5\S7LYWM1T\MP900444868[1].jpg"/>
          <p:cNvPicPr/>
          <p:nvPr/>
        </p:nvPicPr>
        <p:blipFill>
          <a:blip r:embed="rId2"/>
          <a:srcRect l="0" t="8517" r="0" b="10453"/>
          <a:stretch/>
        </p:blipFill>
        <p:spPr>
          <a:xfrm>
            <a:off x="5135400" y="179280"/>
            <a:ext cx="3853080" cy="4095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2477880" y="2852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りがとうございました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テキスト ボックス 3"/>
          <p:cNvSpPr/>
          <p:nvPr/>
        </p:nvSpPr>
        <p:spPr>
          <a:xfrm>
            <a:off x="-36360" y="1159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ーソナル・スペースとは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179280" y="12096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空いている電車内で、見ず知らずの人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隣に座るとちょっと嫌な気分にな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5"/>
          <p:cNvSpPr/>
          <p:nvPr/>
        </p:nvSpPr>
        <p:spPr>
          <a:xfrm>
            <a:off x="179280" y="4365720"/>
            <a:ext cx="79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周りには、他者にむやみに入ってほしくない一定の空間があ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その空間が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パーソナル・スペース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であ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6"/>
          <p:cNvSpPr/>
          <p:nvPr/>
        </p:nvSpPr>
        <p:spPr>
          <a:xfrm>
            <a:off x="179280" y="5732640"/>
            <a:ext cx="79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パーソナル・スペースは相手との親密度・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アイコンタクト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等の影響を受け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1"/>
          <p:cNvSpPr/>
          <p:nvPr/>
        </p:nvSpPr>
        <p:spPr>
          <a:xfrm>
            <a:off x="1657440" y="233028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しかし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179280" y="344664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混んでいるとあまり気になら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C:\Users\09hp122\AppData\Local\Microsoft\Windows\Temporary Internet Files\Content.IE5\UXY1D5MS\MP900399976[1].jpg"/>
          <p:cNvPicPr/>
          <p:nvPr/>
        </p:nvPicPr>
        <p:blipFill>
          <a:blip r:embed="rId1"/>
          <a:stretch/>
        </p:blipFill>
        <p:spPr>
          <a:xfrm>
            <a:off x="4716360" y="1123920"/>
            <a:ext cx="39769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テキスト ボックス 175"/>
          <p:cNvSpPr/>
          <p:nvPr/>
        </p:nvSpPr>
        <p:spPr>
          <a:xfrm>
            <a:off x="-36360" y="115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ーソナル・スペースの計測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77"/>
          <p:cNvSpPr/>
          <p:nvPr/>
        </p:nvSpPr>
        <p:spPr>
          <a:xfrm>
            <a:off x="142920" y="23493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参加者に向かいモデルが近づいていくことでパーソナル・スペースを測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気づまり」「目をそらしたい」という地点がパーソナル・スペースの境界付近とな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76"/>
          <p:cNvSpPr/>
          <p:nvPr/>
        </p:nvSpPr>
        <p:spPr>
          <a:xfrm>
            <a:off x="179280" y="11826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パーソナル・スペースの計測方法で一般的なのは、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停止距離法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呼ばれる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46"/>
          <p:cNvGrpSpPr/>
          <p:nvPr/>
        </p:nvGrpSpPr>
        <p:grpSpPr>
          <a:xfrm>
            <a:off x="223560" y="3033720"/>
            <a:ext cx="8667720" cy="3661200"/>
            <a:chOff x="223560" y="3033720"/>
            <a:chExt cx="8667720" cy="3661200"/>
          </a:xfrm>
        </p:grpSpPr>
        <p:sp>
          <p:nvSpPr>
            <p:cNvPr id="54" name="円/楕円 180"/>
            <p:cNvSpPr/>
            <p:nvPr/>
          </p:nvSpPr>
          <p:spPr>
            <a:xfrm>
              <a:off x="5667840" y="4989240"/>
              <a:ext cx="3223440" cy="923400"/>
            </a:xfrm>
            <a:prstGeom prst="ellipse">
              <a:avLst/>
            </a:prstGeom>
            <a:solidFill>
              <a:srgbClr val="00b0f0"/>
            </a:solidFill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グループ化 182"/>
            <p:cNvGrpSpPr/>
            <p:nvPr/>
          </p:nvGrpSpPr>
          <p:grpSpPr>
            <a:xfrm>
              <a:off x="223560" y="3033720"/>
              <a:ext cx="8631720" cy="3661200"/>
              <a:chOff x="223560" y="3033720"/>
              <a:chExt cx="8631720" cy="3661200"/>
            </a:xfrm>
          </p:grpSpPr>
          <p:grpSp>
            <p:nvGrpSpPr>
              <p:cNvPr id="56" name="グループ化 139"/>
              <p:cNvGrpSpPr/>
              <p:nvPr/>
            </p:nvGrpSpPr>
            <p:grpSpPr>
              <a:xfrm>
                <a:off x="223560" y="3033720"/>
                <a:ext cx="8631720" cy="3661200"/>
                <a:chOff x="223560" y="3033720"/>
                <a:chExt cx="8631720" cy="3661200"/>
              </a:xfrm>
            </p:grpSpPr>
            <p:grpSp>
              <p:nvGrpSpPr>
                <p:cNvPr id="57" name="グループ化 140"/>
                <p:cNvGrpSpPr/>
                <p:nvPr/>
              </p:nvGrpSpPr>
              <p:grpSpPr>
                <a:xfrm>
                  <a:off x="223560" y="3033720"/>
                  <a:ext cx="8631720" cy="3661200"/>
                  <a:chOff x="223560" y="3033720"/>
                  <a:chExt cx="8631720" cy="3661200"/>
                </a:xfrm>
              </p:grpSpPr>
              <p:sp>
                <p:nvSpPr>
                  <p:cNvPr id="58" name="テキスト ボックス 11"/>
                  <p:cNvSpPr/>
                  <p:nvPr/>
                </p:nvSpPr>
                <p:spPr>
                  <a:xfrm>
                    <a:off x="223560" y="3952800"/>
                    <a:ext cx="5464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モデル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テキスト ボックス 11"/>
                  <p:cNvSpPr/>
                  <p:nvPr/>
                </p:nvSpPr>
                <p:spPr>
                  <a:xfrm>
                    <a:off x="8065080" y="3952800"/>
                    <a:ext cx="790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実験参加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0" name="グループ化 13"/>
                  <p:cNvGrpSpPr/>
                  <p:nvPr/>
                </p:nvGrpSpPr>
                <p:grpSpPr>
                  <a:xfrm>
                    <a:off x="361440" y="3033720"/>
                    <a:ext cx="8367480" cy="3025080"/>
                    <a:chOff x="361440" y="3033720"/>
                    <a:chExt cx="8367480" cy="3025080"/>
                  </a:xfrm>
                </p:grpSpPr>
                <p:sp>
                  <p:nvSpPr>
                    <p:cNvPr id="61" name="正方形/長方形 151"/>
                    <p:cNvSpPr/>
                    <p:nvPr/>
                  </p:nvSpPr>
                  <p:spPr>
                    <a:xfrm>
                      <a:off x="905760" y="4935600"/>
                      <a:ext cx="75060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接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" name="正方形/長方形 152"/>
                    <p:cNvSpPr/>
                    <p:nvPr/>
                  </p:nvSpPr>
                  <p:spPr>
                    <a:xfrm>
                      <a:off x="1650240" y="4935600"/>
                      <a:ext cx="62388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評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" name="正方形/長方形 153"/>
                    <p:cNvSpPr/>
                    <p:nvPr/>
                  </p:nvSpPr>
                  <p:spPr>
                    <a:xfrm>
                      <a:off x="2274120" y="4935600"/>
                      <a:ext cx="75240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接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" name="正方形/長方形 154"/>
                    <p:cNvSpPr/>
                    <p:nvPr/>
                  </p:nvSpPr>
                  <p:spPr>
                    <a:xfrm>
                      <a:off x="3025080" y="4935600"/>
                      <a:ext cx="62388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評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" name="正方形/長方形 155"/>
                    <p:cNvSpPr/>
                    <p:nvPr/>
                  </p:nvSpPr>
                  <p:spPr>
                    <a:xfrm>
                      <a:off x="4395240" y="4935600"/>
                      <a:ext cx="62208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評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" name="正方形/長方形 156"/>
                    <p:cNvSpPr/>
                    <p:nvPr/>
                  </p:nvSpPr>
                  <p:spPr>
                    <a:xfrm>
                      <a:off x="5017320" y="4935600"/>
                      <a:ext cx="75240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接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" name="正方形/長方形 157"/>
                    <p:cNvSpPr/>
                    <p:nvPr/>
                  </p:nvSpPr>
                  <p:spPr>
                    <a:xfrm>
                      <a:off x="5768280" y="4935600"/>
                      <a:ext cx="62064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評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" name="テキスト ボックス 12"/>
                    <p:cNvSpPr/>
                    <p:nvPr/>
                  </p:nvSpPr>
                  <p:spPr>
                    <a:xfrm>
                      <a:off x="1504800" y="572148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" name="テキスト ボックス 13"/>
                    <p:cNvSpPr/>
                    <p:nvPr/>
                  </p:nvSpPr>
                  <p:spPr>
                    <a:xfrm>
                      <a:off x="2881800" y="572148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" name="テキスト ボックス 17"/>
                    <p:cNvSpPr/>
                    <p:nvPr/>
                  </p:nvSpPr>
                  <p:spPr>
                    <a:xfrm>
                      <a:off x="1437840" y="4562640"/>
                      <a:ext cx="444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1" name="正方形/長方形 161"/>
                    <p:cNvSpPr/>
                    <p:nvPr/>
                  </p:nvSpPr>
                  <p:spPr>
                    <a:xfrm>
                      <a:off x="3644280" y="4935600"/>
                      <a:ext cx="752400" cy="54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接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円/楕円 162"/>
                    <p:cNvSpPr/>
                    <p:nvPr/>
                  </p:nvSpPr>
                  <p:spPr>
                    <a:xfrm>
                      <a:off x="361440" y="4384800"/>
                      <a:ext cx="260280" cy="279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" name="円/楕円 163"/>
                    <p:cNvSpPr/>
                    <p:nvPr/>
                  </p:nvSpPr>
                  <p:spPr>
                    <a:xfrm>
                      <a:off x="404280" y="4664160"/>
                      <a:ext cx="174600" cy="557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4" name="正方形/長方形 164"/>
                    <p:cNvSpPr/>
                    <p:nvPr/>
                  </p:nvSpPr>
                  <p:spPr>
                    <a:xfrm>
                      <a:off x="470880" y="5221440"/>
                      <a:ext cx="52200" cy="4618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5" name="グループ化 68"/>
                    <p:cNvGrpSpPr/>
                    <p:nvPr/>
                  </p:nvGrpSpPr>
                  <p:grpSpPr>
                    <a:xfrm>
                      <a:off x="8077680" y="4914720"/>
                      <a:ext cx="401760" cy="741240"/>
                      <a:chOff x="8077680" y="4914720"/>
                      <a:chExt cx="401760" cy="741240"/>
                    </a:xfrm>
                  </p:grpSpPr>
                  <p:sp>
                    <p:nvSpPr>
                      <p:cNvPr id="76" name="円/楕円 172"/>
                      <p:cNvSpPr/>
                      <p:nvPr/>
                    </p:nvSpPr>
                    <p:spPr>
                      <a:xfrm>
                        <a:off x="8306640" y="4914720"/>
                        <a:ext cx="172800" cy="555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" name="L 字 173"/>
                      <p:cNvSpPr/>
                      <p:nvPr/>
                    </p:nvSpPr>
                    <p:spPr>
                      <a:xfrm rot="5400000">
                        <a:off x="8069760" y="5386320"/>
                        <a:ext cx="277560" cy="26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505" h="229832">
                            <a:moveTo>
                              <a:pt x="0" y="0"/>
                            </a:moveTo>
                            <a:lnTo>
                              <a:pt x="52366" y="0"/>
                            </a:lnTo>
                            <a:lnTo>
                              <a:pt x="52366" y="172706"/>
                            </a:lnTo>
                            <a:lnTo>
                              <a:pt x="228505" y="172706"/>
                            </a:lnTo>
                            <a:lnTo>
                              <a:pt x="228505" y="229832"/>
                            </a:lnTo>
                            <a:lnTo>
                              <a:pt x="0" y="22983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8" name="テキスト ボックス 13"/>
                    <p:cNvSpPr/>
                    <p:nvPr/>
                  </p:nvSpPr>
                  <p:spPr>
                    <a:xfrm>
                      <a:off x="4256640" y="572148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" name="テキスト ボックス 13"/>
                    <p:cNvSpPr/>
                    <p:nvPr/>
                  </p:nvSpPr>
                  <p:spPr>
                    <a:xfrm>
                      <a:off x="5632200" y="572148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" name="テキスト ボックス 22"/>
                    <p:cNvSpPr/>
                    <p:nvPr/>
                  </p:nvSpPr>
                  <p:spPr>
                    <a:xfrm>
                      <a:off x="5355000" y="3817800"/>
                      <a:ext cx="667080" cy="100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気づま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" name="テキスト ボックス 21"/>
                    <p:cNvSpPr/>
                    <p:nvPr/>
                  </p:nvSpPr>
                  <p:spPr>
                    <a:xfrm>
                      <a:off x="6726960" y="3033720"/>
                      <a:ext cx="667080" cy="1876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をそらした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" name="テキスト ボックス 17"/>
                    <p:cNvSpPr/>
                    <p:nvPr/>
                  </p:nvSpPr>
                  <p:spPr>
                    <a:xfrm>
                      <a:off x="2816280" y="4572000"/>
                      <a:ext cx="444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3" name="L 字 166"/>
                    <p:cNvSpPr/>
                    <p:nvPr/>
                  </p:nvSpPr>
                  <p:spPr>
                    <a:xfrm rot="16200000">
                      <a:off x="8190720" y="5117760"/>
                      <a:ext cx="55548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6912" h="456915">
                          <a:moveTo>
                            <a:pt x="0" y="0"/>
                          </a:moveTo>
                          <a:lnTo>
                            <a:pt x="133268" y="0"/>
                          </a:lnTo>
                          <a:lnTo>
                            <a:pt x="133268" y="333165"/>
                          </a:lnTo>
                          <a:lnTo>
                            <a:pt x="456912" y="333165"/>
                          </a:lnTo>
                          <a:lnTo>
                            <a:pt x="456912" y="456915"/>
                          </a:lnTo>
                          <a:lnTo>
                            <a:pt x="0" y="45691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4" name="テキスト ボックス 13"/>
                  <p:cNvSpPr/>
                  <p:nvPr/>
                </p:nvSpPr>
                <p:spPr>
                  <a:xfrm>
                    <a:off x="7009920" y="571320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85" name="直線矢印コネクタ 146"/>
                  <p:cNvCxnSpPr/>
                  <p:nvPr/>
                </p:nvCxnSpPr>
                <p:spPr>
                  <a:xfrm>
                    <a:off x="968400" y="6268320"/>
                    <a:ext cx="6837840" cy="108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86" name="テキスト ボックス 17"/>
                  <p:cNvSpPr/>
                  <p:nvPr/>
                </p:nvSpPr>
                <p:spPr>
                  <a:xfrm>
                    <a:off x="4152240" y="6357600"/>
                    <a:ext cx="5464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20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7" name="テキスト ボックス 17"/>
                <p:cNvSpPr/>
                <p:nvPr/>
              </p:nvSpPr>
              <p:spPr>
                <a:xfrm>
                  <a:off x="4205880" y="4562280"/>
                  <a:ext cx="444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4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8" name="円/楕円 181"/>
              <p:cNvSpPr/>
              <p:nvPr/>
            </p:nvSpPr>
            <p:spPr>
              <a:xfrm>
                <a:off x="8262720" y="4636800"/>
                <a:ext cx="261720" cy="27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" name="正方形/長方形 43"/>
          <p:cNvSpPr/>
          <p:nvPr/>
        </p:nvSpPr>
        <p:spPr>
          <a:xfrm>
            <a:off x="6388200" y="4933800"/>
            <a:ext cx="752400" cy="5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接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正方形/長方形 44"/>
          <p:cNvSpPr/>
          <p:nvPr/>
        </p:nvSpPr>
        <p:spPr>
          <a:xfrm>
            <a:off x="7139160" y="4933800"/>
            <a:ext cx="620640" cy="5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評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テキスト ボックス 3"/>
          <p:cNvSpPr/>
          <p:nvPr/>
        </p:nvSpPr>
        <p:spPr>
          <a:xfrm>
            <a:off x="-36360" y="1159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ーソナル・スペースと生体反応についての研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7"/>
          <p:cNvSpPr/>
          <p:nvPr/>
        </p:nvSpPr>
        <p:spPr>
          <a:xfrm>
            <a:off x="3151080" y="1116000"/>
            <a:ext cx="28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八重澤・吉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8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8"/>
          <p:cNvSpPr/>
          <p:nvPr/>
        </p:nvSpPr>
        <p:spPr>
          <a:xfrm>
            <a:off x="539640" y="4581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測定指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理指標：緊張・不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生理指標：心拍数・瞬目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対人距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32"/>
          <p:cNvSpPr/>
          <p:nvPr/>
        </p:nvSpPr>
        <p:spPr>
          <a:xfrm>
            <a:off x="539640" y="22305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実験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距離からモデルが接近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ごとに立ち止ま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34"/>
          <p:cNvSpPr/>
          <p:nvPr/>
        </p:nvSpPr>
        <p:spPr>
          <a:xfrm>
            <a:off x="539640" y="321624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群配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参加者とモデルが視線を合わせる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そらす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被験者間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テキスト ボックス 3"/>
          <p:cNvSpPr/>
          <p:nvPr/>
        </p:nvSpPr>
        <p:spPr>
          <a:xfrm>
            <a:off x="-36360" y="115920"/>
            <a:ext cx="61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ーソナル・スペースと生体反応についての研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7"/>
          <p:cNvSpPr/>
          <p:nvPr/>
        </p:nvSpPr>
        <p:spPr>
          <a:xfrm>
            <a:off x="3821040" y="111600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wada(200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"/>
          <p:cNvSpPr/>
          <p:nvPr/>
        </p:nvSpPr>
        <p:spPr>
          <a:xfrm>
            <a:off x="539640" y="458136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測定指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理指標：緊張・不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生理指標：心拍数・瞬目数・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血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32"/>
          <p:cNvSpPr/>
          <p:nvPr/>
        </p:nvSpPr>
        <p:spPr>
          <a:xfrm>
            <a:off x="539640" y="22305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実験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6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距離からモデルが接近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ごとに立ち止ま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34"/>
          <p:cNvSpPr/>
          <p:nvPr/>
        </p:nvSpPr>
        <p:spPr>
          <a:xfrm>
            <a:off x="539640" y="320976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群配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参加者とモデルが視線を合わせる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そらす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被験者間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3"/>
          <p:cNvSpPr/>
          <p:nvPr/>
        </p:nvSpPr>
        <p:spPr>
          <a:xfrm>
            <a:off x="-36360" y="1159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ーソナル・スペースと生体反応についての研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"/>
          <p:cNvSpPr/>
          <p:nvPr/>
        </p:nvSpPr>
        <p:spPr>
          <a:xfrm>
            <a:off x="2432160" y="1116000"/>
            <a:ext cx="42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野瀬・雨森・中尾・松尾・山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8"/>
          <p:cNvSpPr/>
          <p:nvPr/>
        </p:nvSpPr>
        <p:spPr>
          <a:xfrm>
            <a:off x="539640" y="4581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測定指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理指標：緊張・不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生理指標：心拍数・瞬目数・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呼吸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対人距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32"/>
          <p:cNvSpPr/>
          <p:nvPr/>
        </p:nvSpPr>
        <p:spPr>
          <a:xfrm>
            <a:off x="539640" y="22305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実験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4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距離からモデルが接近し、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2m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ごとに立ち止ま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34"/>
          <p:cNvSpPr/>
          <p:nvPr/>
        </p:nvSpPr>
        <p:spPr>
          <a:xfrm>
            <a:off x="539640" y="321624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群配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参加者とモデルが視線を合わせる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そらす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被験者間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グループ化 6"/>
          <p:cNvGrpSpPr/>
          <p:nvPr/>
        </p:nvGrpSpPr>
        <p:grpSpPr>
          <a:xfrm>
            <a:off x="5337000" y="2050920"/>
            <a:ext cx="3946680" cy="2438640"/>
            <a:chOff x="5337000" y="2050920"/>
            <a:chExt cx="3946680" cy="2438640"/>
          </a:xfrm>
        </p:grpSpPr>
        <p:sp>
          <p:nvSpPr>
            <p:cNvPr id="107" name="爆発 1 5"/>
            <p:cNvSpPr/>
            <p:nvPr/>
          </p:nvSpPr>
          <p:spPr>
            <a:xfrm>
              <a:off x="5337000" y="2050920"/>
              <a:ext cx="3946680" cy="2438640"/>
            </a:xfrm>
            <a:prstGeom prst="irregularSeal1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テキスト ボックス 9"/>
            <p:cNvSpPr/>
            <p:nvPr/>
          </p:nvSpPr>
          <p:spPr>
            <a:xfrm>
              <a:off x="5827680" y="295776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結果が一致してない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グループ化 23"/>
          <p:cNvGrpSpPr/>
          <p:nvPr/>
        </p:nvGrpSpPr>
        <p:grpSpPr>
          <a:xfrm>
            <a:off x="5376960" y="4427640"/>
            <a:ext cx="3948120" cy="2438280"/>
            <a:chOff x="5376960" y="4427640"/>
            <a:chExt cx="3948120" cy="2438280"/>
          </a:xfrm>
        </p:grpSpPr>
        <p:sp>
          <p:nvSpPr>
            <p:cNvPr id="110" name="爆発 1 24"/>
            <p:cNvSpPr/>
            <p:nvPr/>
          </p:nvSpPr>
          <p:spPr>
            <a:xfrm>
              <a:off x="5376960" y="4427640"/>
              <a:ext cx="3948120" cy="2438280"/>
            </a:xfrm>
            <a:prstGeom prst="irregularSeal1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テキスト ボックス 9"/>
            <p:cNvSpPr/>
            <p:nvPr/>
          </p:nvSpPr>
          <p:spPr>
            <a:xfrm>
              <a:off x="5868000" y="5334120"/>
              <a:ext cx="32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結果が一致してない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テキスト ボックス 3"/>
          <p:cNvSpPr/>
          <p:nvPr/>
        </p:nvSpPr>
        <p:spPr>
          <a:xfrm>
            <a:off x="-36360" y="11592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先行研究の結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10"/>
          <p:cNvSpPr/>
          <p:nvPr/>
        </p:nvSpPr>
        <p:spPr>
          <a:xfrm>
            <a:off x="108000" y="4257720"/>
            <a:ext cx="748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対人距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八重澤・吉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8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群に比べ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直視群のほうが対人距離は長くな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グループ化 17"/>
          <p:cNvGrpSpPr/>
          <p:nvPr/>
        </p:nvGrpSpPr>
        <p:grpSpPr>
          <a:xfrm>
            <a:off x="106200" y="1052640"/>
            <a:ext cx="9145800" cy="749880"/>
            <a:chOff x="106200" y="1052640"/>
            <a:chExt cx="9145800" cy="749880"/>
          </a:xfrm>
        </p:grpSpPr>
        <p:sp>
          <p:nvSpPr>
            <p:cNvPr id="115" name="テキスト ボックス 9"/>
            <p:cNvSpPr/>
            <p:nvPr/>
          </p:nvSpPr>
          <p:spPr>
            <a:xfrm>
              <a:off x="106200" y="1052640"/>
              <a:ext cx="19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・心理指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テキスト ボックス 11"/>
            <p:cNvSpPr/>
            <p:nvPr/>
          </p:nvSpPr>
          <p:spPr>
            <a:xfrm>
              <a:off x="106200" y="1403640"/>
              <a:ext cx="914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全ての先行研究で不安・緊張・見えの大きさは距離が近づくほど上昇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2"/>
          <p:cNvGrpSpPr/>
          <p:nvPr/>
        </p:nvGrpSpPr>
        <p:grpSpPr>
          <a:xfrm>
            <a:off x="108000" y="1987560"/>
            <a:ext cx="6769080" cy="1115640"/>
            <a:chOff x="108000" y="1987560"/>
            <a:chExt cx="6769080" cy="1115640"/>
          </a:xfrm>
        </p:grpSpPr>
        <p:sp>
          <p:nvSpPr>
            <p:cNvPr id="118" name="テキスト ボックス 5"/>
            <p:cNvSpPr/>
            <p:nvPr/>
          </p:nvSpPr>
          <p:spPr>
            <a:xfrm>
              <a:off x="108000" y="1987560"/>
              <a:ext cx="16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・心拍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テキスト ボックス 14"/>
            <p:cNvSpPr/>
            <p:nvPr/>
          </p:nvSpPr>
          <p:spPr>
            <a:xfrm>
              <a:off x="108000" y="2338560"/>
              <a:ext cx="6769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八重澤・吉田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(1981)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と野瀬ら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(2005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→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パーソナル・スペースの境界付近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で急激に</a:t>
              </a: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増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テキスト ボックス 1"/>
          <p:cNvSpPr/>
          <p:nvPr/>
        </p:nvSpPr>
        <p:spPr>
          <a:xfrm>
            <a:off x="179280" y="3068640"/>
            <a:ext cx="597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wada(200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接近開始時に増加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し、それ以降は変化な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3"/>
          <p:cNvSpPr/>
          <p:nvPr/>
        </p:nvSpPr>
        <p:spPr>
          <a:xfrm>
            <a:off x="120600" y="5445000"/>
            <a:ext cx="6467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野瀬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直視群と非直視群で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対人距離に差はな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4"/>
          <p:cNvSpPr/>
          <p:nvPr/>
        </p:nvSpPr>
        <p:spPr>
          <a:xfrm>
            <a:off x="-36360" y="1112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先行研究の問題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8"/>
          <p:cNvSpPr/>
          <p:nvPr/>
        </p:nvSpPr>
        <p:spPr>
          <a:xfrm>
            <a:off x="95400" y="981000"/>
            <a:ext cx="79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距離：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スタート地点はもっと近くてもよい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では？←途中で心拍数が減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11"/>
          <p:cNvSpPr/>
          <p:nvPr/>
        </p:nvSpPr>
        <p:spPr>
          <a:xfrm>
            <a:off x="95400" y="3225960"/>
            <a:ext cx="73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対人距離：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結果が一致していない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←視線で対人距離は長くなるは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　　　　　　　個人差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が影響してるのでは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テキスト ボックス 10"/>
          <p:cNvSpPr/>
          <p:nvPr/>
        </p:nvSpPr>
        <p:spPr>
          <a:xfrm>
            <a:off x="95400" y="194796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生理指標：心拍数について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結果が一致してい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　　　　　　まだ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検討されていない指標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があ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皮膚コンダクタンス・指尖血流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グループ化 5"/>
          <p:cNvGrpSpPr/>
          <p:nvPr/>
        </p:nvGrpSpPr>
        <p:grpSpPr>
          <a:xfrm>
            <a:off x="4176720" y="4132440"/>
            <a:ext cx="5003640" cy="2465280"/>
            <a:chOff x="4176720" y="4132440"/>
            <a:chExt cx="5003640" cy="2465280"/>
          </a:xfrm>
        </p:grpSpPr>
        <p:pic>
          <p:nvPicPr>
            <p:cNvPr id="127" name="Picture 11" descr="C:\Users\09hp122\AppData\Local\Microsoft\Windows\Temporary Internet Files\Content.IE5\YP6CA8QQ\MP900426461[1].jpg"/>
            <p:cNvPicPr/>
            <p:nvPr/>
          </p:nvPicPr>
          <p:blipFill>
            <a:blip r:embed="rId1"/>
            <a:srcRect l="10810" t="0" r="14436" b="0"/>
            <a:stretch/>
          </p:blipFill>
          <p:spPr>
            <a:xfrm>
              <a:off x="4176720" y="4132440"/>
              <a:ext cx="2771640" cy="24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円形吹き出し 3"/>
            <p:cNvSpPr/>
            <p:nvPr/>
          </p:nvSpPr>
          <p:spPr>
            <a:xfrm>
              <a:off x="6396120" y="4276800"/>
              <a:ext cx="2784240" cy="1440000"/>
            </a:xfrm>
            <a:prstGeom prst="wedgeEllipseCallout">
              <a:avLst>
                <a:gd name="adj1" fmla="val -58259"/>
                <a:gd name="adj2" fmla="val 38162"/>
              </a:avLst>
            </a:prstGeom>
            <a:solidFill>
              <a:srgbClr val="fdfd6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テキスト ボックス 4"/>
            <p:cNvSpPr/>
            <p:nvPr/>
          </p:nvSpPr>
          <p:spPr>
            <a:xfrm>
              <a:off x="6633000" y="4518000"/>
              <a:ext cx="239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じゃ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Calibri"/>
                </a:rPr>
                <a:t>どうするにゃ！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テキスト ボックス 4"/>
          <p:cNvSpPr/>
          <p:nvPr/>
        </p:nvSpPr>
        <p:spPr>
          <a:xfrm>
            <a:off x="-36360" y="1112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卒論で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8"/>
          <p:cNvSpPr/>
          <p:nvPr/>
        </p:nvSpPr>
        <p:spPr>
          <a:xfrm>
            <a:off x="324000" y="3284640"/>
            <a:ext cx="68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測定指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不安・緊張・対人距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心拍数・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皮膚コンダクタンス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指尖血流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34"/>
          <p:cNvSpPr/>
          <p:nvPr/>
        </p:nvSpPr>
        <p:spPr>
          <a:xfrm>
            <a:off x="324000" y="1916280"/>
            <a:ext cx="852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・条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参加者とモデルが視線を合わせる条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直視条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視線をそらす条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非直視条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被験者間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グループ化 1"/>
          <p:cNvGrpSpPr/>
          <p:nvPr/>
        </p:nvGrpSpPr>
        <p:grpSpPr>
          <a:xfrm>
            <a:off x="324000" y="533520"/>
            <a:ext cx="8526240" cy="6316200"/>
            <a:chOff x="324000" y="533520"/>
            <a:chExt cx="8526240" cy="6316200"/>
          </a:xfrm>
        </p:grpSpPr>
        <p:sp>
          <p:nvSpPr>
            <p:cNvPr id="134" name="テキスト ボックス 32"/>
            <p:cNvSpPr/>
            <p:nvPr/>
          </p:nvSpPr>
          <p:spPr>
            <a:xfrm>
              <a:off x="324000" y="533520"/>
              <a:ext cx="8526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・実験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分間の安静状態測定後、</a:t>
              </a: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8m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の距離からモデルが接近し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m</a:t>
              </a: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ごとに立ち止ま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「気づまり」「目をそらしたい」地点で参加者が挙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"/>
                </a:rPr>
                <a:t>各距離段階で心理指標の評定をす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" name="グループ化 46"/>
            <p:cNvGrpSpPr/>
            <p:nvPr/>
          </p:nvGrpSpPr>
          <p:grpSpPr>
            <a:xfrm>
              <a:off x="1078560" y="3645360"/>
              <a:ext cx="6890040" cy="3204360"/>
              <a:chOff x="1078560" y="3645360"/>
              <a:chExt cx="6890040" cy="3204360"/>
            </a:xfrm>
          </p:grpSpPr>
          <p:sp>
            <p:nvSpPr>
              <p:cNvPr id="136" name="テキスト ボックス 11"/>
              <p:cNvSpPr/>
              <p:nvPr/>
            </p:nvSpPr>
            <p:spPr>
              <a:xfrm>
                <a:off x="1078560" y="425412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Ｐゴシック"/>
                  </a:rPr>
                  <a:t>モデル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テキスト ボックス 11"/>
              <p:cNvSpPr/>
              <p:nvPr/>
            </p:nvSpPr>
            <p:spPr>
              <a:xfrm>
                <a:off x="7178400" y="425412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Ｐゴシック"/>
                  </a:rPr>
                  <a:t>実験参加者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グループ化 49"/>
              <p:cNvGrpSpPr/>
              <p:nvPr/>
            </p:nvGrpSpPr>
            <p:grpSpPr>
              <a:xfrm>
                <a:off x="1218240" y="3645360"/>
                <a:ext cx="6615360" cy="2606760"/>
                <a:chOff x="1218240" y="3645360"/>
                <a:chExt cx="6615360" cy="2606760"/>
              </a:xfrm>
            </p:grpSpPr>
            <p:sp>
              <p:nvSpPr>
                <p:cNvPr id="139" name="正方形/長方形 52"/>
                <p:cNvSpPr/>
                <p:nvPr/>
              </p:nvSpPr>
              <p:spPr>
                <a:xfrm>
                  <a:off x="1743480" y="5173920"/>
                  <a:ext cx="72396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接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正方形/長方形 53"/>
                <p:cNvSpPr/>
                <p:nvPr/>
              </p:nvSpPr>
              <p:spPr>
                <a:xfrm>
                  <a:off x="2462760" y="5173920"/>
                  <a:ext cx="60156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評定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正方形/長方形 54"/>
                <p:cNvSpPr/>
                <p:nvPr/>
              </p:nvSpPr>
              <p:spPr>
                <a:xfrm>
                  <a:off x="3064320" y="5173920"/>
                  <a:ext cx="72540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接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正方形/長方形 55"/>
                <p:cNvSpPr/>
                <p:nvPr/>
              </p:nvSpPr>
              <p:spPr>
                <a:xfrm>
                  <a:off x="3788280" y="5173920"/>
                  <a:ext cx="60012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評定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正方形/長方形 56"/>
                <p:cNvSpPr/>
                <p:nvPr/>
              </p:nvSpPr>
              <p:spPr>
                <a:xfrm>
                  <a:off x="5109480" y="5173920"/>
                  <a:ext cx="60012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評定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正方形/長方形 57"/>
                <p:cNvSpPr/>
                <p:nvPr/>
              </p:nvSpPr>
              <p:spPr>
                <a:xfrm>
                  <a:off x="5709600" y="5173920"/>
                  <a:ext cx="72540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接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正方形/長方形 58"/>
                <p:cNvSpPr/>
                <p:nvPr/>
              </p:nvSpPr>
              <p:spPr>
                <a:xfrm>
                  <a:off x="6433560" y="5173920"/>
                  <a:ext cx="60012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評定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テキスト ボックス 12"/>
                <p:cNvSpPr/>
                <p:nvPr/>
              </p:nvSpPr>
              <p:spPr>
                <a:xfrm>
                  <a:off x="2315160" y="5914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テキスト ボックス 13"/>
                <p:cNvSpPr/>
                <p:nvPr/>
              </p:nvSpPr>
              <p:spPr>
                <a:xfrm>
                  <a:off x="3642480" y="5914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テキスト ボックス 17"/>
                <p:cNvSpPr/>
                <p:nvPr/>
              </p:nvSpPr>
              <p:spPr>
                <a:xfrm>
                  <a:off x="2248560" y="4826520"/>
                  <a:ext cx="444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2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正方形/長方形 62"/>
                <p:cNvSpPr/>
                <p:nvPr/>
              </p:nvSpPr>
              <p:spPr>
                <a:xfrm>
                  <a:off x="4383720" y="5173920"/>
                  <a:ext cx="72684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接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円/楕円 63"/>
                <p:cNvSpPr/>
                <p:nvPr/>
              </p:nvSpPr>
              <p:spPr>
                <a:xfrm>
                  <a:off x="1218240" y="4660920"/>
                  <a:ext cx="250560" cy="2584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円/楕円 64"/>
                <p:cNvSpPr/>
                <p:nvPr/>
              </p:nvSpPr>
              <p:spPr>
                <a:xfrm>
                  <a:off x="1259280" y="4919760"/>
                  <a:ext cx="168120" cy="522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正方形/長方形 65"/>
                <p:cNvSpPr/>
                <p:nvPr/>
              </p:nvSpPr>
              <p:spPr>
                <a:xfrm>
                  <a:off x="1323000" y="5442120"/>
                  <a:ext cx="50760" cy="434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3" name="グループ化 66"/>
                <p:cNvGrpSpPr/>
                <p:nvPr/>
              </p:nvGrpSpPr>
              <p:grpSpPr>
                <a:xfrm>
                  <a:off x="7205040" y="4896000"/>
                  <a:ext cx="429480" cy="956880"/>
                  <a:chOff x="7205040" y="4896000"/>
                  <a:chExt cx="429480" cy="956880"/>
                </a:xfrm>
              </p:grpSpPr>
              <p:sp>
                <p:nvSpPr>
                  <p:cNvPr id="154" name="円/楕円 73"/>
                  <p:cNvSpPr/>
                  <p:nvPr/>
                </p:nvSpPr>
                <p:spPr>
                  <a:xfrm>
                    <a:off x="7425360" y="5156640"/>
                    <a:ext cx="167760" cy="523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" name="L 字 74"/>
                  <p:cNvSpPr/>
                  <p:nvPr/>
                </p:nvSpPr>
                <p:spPr>
                  <a:xfrm rot="5400000">
                    <a:off x="7199640" y="5595840"/>
                    <a:ext cx="262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464" h="229681">
                        <a:moveTo>
                          <a:pt x="0" y="0"/>
                        </a:moveTo>
                        <a:lnTo>
                          <a:pt x="52586" y="0"/>
                        </a:lnTo>
                        <a:lnTo>
                          <a:pt x="52586" y="172315"/>
                        </a:lnTo>
                        <a:lnTo>
                          <a:pt x="229464" y="172315"/>
                        </a:lnTo>
                        <a:lnTo>
                          <a:pt x="229464" y="229681"/>
                        </a:lnTo>
                        <a:lnTo>
                          <a:pt x="0" y="2296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" name="円/楕円 75"/>
                  <p:cNvSpPr/>
                  <p:nvPr/>
                </p:nvSpPr>
                <p:spPr>
                  <a:xfrm>
                    <a:off x="7382880" y="4896000"/>
                    <a:ext cx="2516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57" name="L 字 67"/>
                <p:cNvSpPr/>
                <p:nvPr/>
              </p:nvSpPr>
              <p:spPr>
                <a:xfrm rot="16200000">
                  <a:off x="7322400" y="5340600"/>
                  <a:ext cx="520560" cy="501480"/>
                </a:xfrm>
                <a:custGeom>
                  <a:avLst/>
                  <a:gdLst/>
                  <a:ahLst/>
                  <a:rect l="l" t="t" r="r" b="b"/>
                  <a:pathLst>
                    <a:path w="456051" h="456512">
                      <a:moveTo>
                        <a:pt x="0" y="0"/>
                      </a:moveTo>
                      <a:lnTo>
                        <a:pt x="133016" y="0"/>
                      </a:lnTo>
                      <a:lnTo>
                        <a:pt x="133016" y="332995"/>
                      </a:lnTo>
                      <a:lnTo>
                        <a:pt x="456051" y="332995"/>
                      </a:lnTo>
                      <a:lnTo>
                        <a:pt x="456051" y="456512"/>
                      </a:lnTo>
                      <a:lnTo>
                        <a:pt x="0" y="4565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テキスト ボックス 13"/>
                <p:cNvSpPr/>
                <p:nvPr/>
              </p:nvSpPr>
              <p:spPr>
                <a:xfrm>
                  <a:off x="4969800" y="5914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テキスト ボックス 13"/>
                <p:cNvSpPr/>
                <p:nvPr/>
              </p:nvSpPr>
              <p:spPr>
                <a:xfrm>
                  <a:off x="6295320" y="5914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テキスト ボックス 22"/>
                <p:cNvSpPr/>
                <p:nvPr/>
              </p:nvSpPr>
              <p:spPr>
                <a:xfrm>
                  <a:off x="4681440" y="412776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気づまり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テキスト ボックス 21"/>
                <p:cNvSpPr/>
                <p:nvPr/>
              </p:nvSpPr>
              <p:spPr>
                <a:xfrm>
                  <a:off x="6004080" y="3645360"/>
                  <a:ext cx="667080" cy="15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ＭＳ Ｐゴシック"/>
                    </a:rPr>
                    <a:t>目をそらしたい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テキスト ボックス 17"/>
                <p:cNvSpPr/>
                <p:nvPr/>
              </p:nvSpPr>
              <p:spPr>
                <a:xfrm>
                  <a:off x="3577680" y="4834440"/>
                  <a:ext cx="444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2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63" name="直線矢印コネクタ 50"/>
              <p:cNvCxnSpPr/>
              <p:nvPr/>
            </p:nvCxnSpPr>
            <p:spPr>
              <a:xfrm>
                <a:off x="1670040" y="6427800"/>
                <a:ext cx="540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4" name="テキスト ボックス 17"/>
              <p:cNvSpPr/>
              <p:nvPr/>
            </p:nvSpPr>
            <p:spPr>
              <a:xfrm>
                <a:off x="4242240" y="6512400"/>
                <a:ext cx="44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8m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4:52:55Z</dcterms:created>
  <dc:creator>佐軒 美穂</dc:creator>
  <dc:description/>
  <dc:language>en-US</dc:language>
  <cp:lastModifiedBy>佐軒 美穂</cp:lastModifiedBy>
  <dcterms:modified xsi:type="dcterms:W3CDTF">2013-01-07T09:33:24Z</dcterms:modified>
  <cp:revision>183</cp:revision>
  <dc:subject/>
  <dc:title>PowerPoint プレゼンテーション</dc:title>
</cp:coreProperties>
</file>